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3443-5E20-4529-A2E5-61651FC10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B9F-4A84-48B7-A4FA-5261D051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847-9D60-4D3C-B676-FA1C29AA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BE7-D9B0-42AB-82D9-3A52CB9E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0975-8658-4F12-89E3-D152A72D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E8E4-202F-4624-99DF-E9813F21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409B-4E8F-47F6-95EF-41EB6F56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321D-2760-475B-A878-88E4FEE17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19F5-A8C4-415F-8D8C-FDCA0CDB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9E1E-3E9A-46DD-8830-71BDF6986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1E1-526B-467C-A3DA-9904388E3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FC99-7043-4215-BD2F-CF52C1824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064D-4D47-4690-88A4-238FDD75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3BAF-FA53-4600-BCE7-A6392830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0AF-5410-40FF-BC9B-A7ABE35A2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041-4D59-4A5C-8FB1-C420D311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7C8-DC50-43BD-ABB7-64503D39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264-F3CB-4EF0-881D-78CAC6E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0E6-F8FD-4045-A93C-03087369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635-16FB-4892-8505-F1E21B15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B269-9B78-432C-B581-397D992A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1E13-3A4D-4322-A09B-8E3115E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BCF6-E030-48DE-9DF9-7B8CB0C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E7F0-8B8A-432D-8BB6-04296E3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3D7-6C5B-46F7-B06F-437675B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79D-DB7E-42EF-89EA-07342F8E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4BF5-DC4E-4A46-B873-3787D66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1E8-9903-400E-8770-0D763BA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3B0-68E8-4913-ADF0-519E2FE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A35-DF7A-4DC7-A083-19E5438C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9917-77B7-4D10-AA19-03502AE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3BA-152D-47CE-9D61-91159F1C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EA26-D059-465B-B277-1D650F71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7DF57-56DE-4548-B737-519C4B7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A5CC9-9D3A-4A6A-8E26-87F3577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F7EAA-F3A0-439A-A060-D35C0A91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51FEA-F14A-45A5-9C48-4108DFA0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2733A-2620-4FDB-B0D7-AA81CAE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052-F883-4B67-86AE-E6F7C0BA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37C53-0DCB-41E8-959B-1EA13FE6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873F3-B9F5-4759-991E-FC9789F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4C9F6-3EBF-4DFE-AA6B-92620AF3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8E2DB-8D0C-47E4-9542-BCE38ECB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4D5B8-3CB8-4423-BAC6-F768FAC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61915-2CD8-429B-8B23-55F724AA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8E78B-CA96-4433-B33B-342910AA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ACECD-D6A1-4507-AF9F-0FD01F07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E5E14-C566-4090-8233-C30E00C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26F31-0397-428E-A1BA-AB1948DD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0CB-E43F-4CEB-B72E-B4DF40C1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EBE31-D29C-4BC1-8B06-0EC7FFA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D036F-D248-49C9-9DB2-84A4F05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D6EC9-00D0-442B-BDB4-56AD030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5EA9A-4293-4263-89AA-8E82B66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140F5-841F-4E3D-93F5-31BC021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32A8B-E1E7-4261-B515-0929747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25FBF-492B-490E-80C8-16A1EAF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56986-53A7-4138-99E5-E1C5843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2C928-CC57-4B3D-8FD3-CCFBA3C3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C2DA6-CDC1-4578-BC59-34E04E28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33D-73E2-4A0A-80DF-5B9DB12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92D9E-2EF4-46D1-B075-0CAE52EE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A7B2D-15C4-4EAE-A840-0C7D65A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A446C-7216-4E40-8C74-69F1B973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A8E00-8191-4CF9-8FC2-E09B4F5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31709-EF7B-4052-A98F-A70480E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5003B-0992-49A2-8765-A35AEB7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77881-86AF-4BA7-86A3-BCB3374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A41E6-0A6E-479D-9F1E-2997194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D06763-F1B2-4F46-966E-90195073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1852B5-541B-4F9A-8F50-DA1A8D4F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C44-FC74-451D-941A-135EC2F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4F47A-B3F3-49F7-9B59-619CF567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CD488-119D-4ABC-A566-532100C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CF63-8303-4AE2-8EF9-AC85BAE3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44CC-4F7C-4AC0-A982-7574D50F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58D2-FC38-42E9-BF8F-0FE78EAF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A68D7-7448-484A-9652-C75154D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DB38-1399-4446-92F3-6FA9141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10347-334B-499F-ACDD-3DD6EE5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3F322-B6A5-4EB5-8A6A-657874D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0888-EF9A-47D2-ADA1-E547502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A93-4F78-459D-AF64-45B07D9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6771E-1D1C-4FA4-867F-0BF4A99F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AD30-2A2C-4F28-A967-00E117EF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788E9-4D5A-49B5-9A2A-84E509C0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A7C10-E094-4BCB-A664-E8DB63E4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33983-F2F8-46C6-8266-B173564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6396C-BABA-4F16-8253-EC06348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28486-2396-4C64-AF3F-7CCD9425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3F6FB-94E6-4451-BCA1-8E23A18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CEAD7-56DF-429E-941B-6599912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B29D1-EDEC-4235-9CC2-DE7E588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9EE-E0DE-4B62-9955-50E37B31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DE4BB-77D8-4519-B657-285895F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AC3BD-992B-42EF-9829-23AFF358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787ED-6494-446E-B627-FB114ED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28750-1A44-4A61-8520-C88C1838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CBDD2-F89E-4F1D-A22A-C1DADEBD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280B-5EC5-4254-A734-0AA3B220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BB35-EC18-4EF3-97DE-5C84C290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F9BDB-5E3E-4380-8676-6DF5DAD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B607-A991-46F6-8451-B522E6D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7236-3ED8-4EFB-BA26-E2ADD63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B0B-AAD1-411B-85B5-9A4AD83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41AAF-F347-4C25-AFC7-4A294D62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A0C2-D056-4EC4-BB0A-9E4EADF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A725-BE14-4FAD-A158-8D1F385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E20C-7611-4C83-85E9-177EA0F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F0F94-677E-41B9-9C1C-5EBCCF8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EF3DF-8E9D-46A9-8119-FDA20FF9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B9E7A-3D44-430A-AEFC-389B186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A4D-9FBC-43D0-AD75-A2393BFBB3C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0600-9ECC-4B13-99CA-F6A02ADB708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E717-E5F0-421E-B5C9-7AADA77D190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7D3-E65A-438B-9C1E-F3212CEF5E1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4E41-CBCA-4A3A-85DE-5C003CB17F8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C99-FC87-4480-847C-17F1B040F43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8C6B-E80E-4FDB-AD6C-D77E46EEF28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8F4-8ECA-487E-8867-F57113612F0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ig6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THE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s/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ssons/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or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fers teachers a vast array of teaching support and staff development including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quiry Proc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-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Building Blocks of Research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avvy 7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lip I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Research Cycl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w Cen MT"/>
              </a:rPr>
              <a:t>Eight Ws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5486400" y="350532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838080"/>
            <a:ext cx="449568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9" descr="C:\Users\Mandy\AppData\Local\Microsoft\Windows\Temporary Internet Files\Content.IE5\VH7VPNAV\MCj04238420000[1].wmf"/>
          <p:cNvPicPr/>
          <p:nvPr/>
        </p:nvPicPr>
        <p:blipFill>
          <a:blip r:embed="rId1"/>
          <a:stretch/>
        </p:blipFill>
        <p:spPr>
          <a:xfrm>
            <a:off x="3670200" y="42670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4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4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53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5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6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7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 (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 (Robinson 11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. Students will consider if their current style and approach works well for problem solving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Ste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Mandy</cp:lastModifiedBy>
  <dcterms:modified xsi:type="dcterms:W3CDTF">2009-10-23T03:00:35Z</dcterms:modified>
  <cp:revision>37</cp:revision>
  <dc:subject/>
  <dc:title>Inquiry/research process the information literacy solution</dc:title>
</cp:coreProperties>
</file>