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4874-C2ED-4A67-951F-8F64286D3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B7AC-82D9-442D-AAE3-274F6831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1E05-BED7-437C-8702-280E165AA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1519-BCF6-4F3D-82B5-AA374840D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994E-42FA-4E85-8107-F719AF394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671-D2BB-494D-BA5F-AB7BC951E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C59E-2345-44B8-9871-E91A0FCC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A148-AE03-4871-86BE-E0DE4533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D8C6-92C1-49C6-9669-2B46C85B1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ACF9-0C9F-4E44-9825-8904BB0D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8B99-9668-4EC0-B4C9-F7B19B12C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D922-6BE3-49D1-A28A-42BEE79CC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0276-CBCD-42A6-AB9F-7BAF2004B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2B1B-9ECB-4187-9138-9EF2B8C98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2220-E67D-4C6B-8DEB-340B44917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F388-671F-4830-B66F-5C6669C0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601-ED2D-4627-B6DC-9CDB849F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1AA-FF0B-4899-BD6A-269BC925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D63-385E-4237-B960-E8A319CA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88E-3DED-40F0-A744-9920437E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3924-724F-4C8F-8CCA-D911081D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F8DF-ED19-44A5-856B-FEC97DA3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21F0-CC03-4B78-A130-A3C37063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BF7D-4D47-426D-844B-B3854DF2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4233-AF54-40D3-B75D-C1992DF3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BD38-C4A0-4755-9A88-B7C0A686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65FD-D47C-4E4B-AA8B-55D997FA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356-7C0E-452A-AB61-3A46849D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E66E-F73D-4887-8EBE-0FE3EFE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27B4-C19C-4FF7-B5F9-F2E57517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8246-A978-4303-A88E-F55AEE74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3E3A-4D1F-441B-B515-D972E841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8B29-7934-4241-9960-90D11877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D8448-2EE1-41E9-AB3A-FB9591FD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AD663-E79D-4C8E-AFF3-7FC3394B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776D3-4406-4651-AB72-D18E9280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D2E2C-0C17-4996-98CA-933C13FD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05C46-0B23-47A4-AEE1-9BDB0249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074-4337-448C-A61F-38E76EFD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9C9D5-C99D-4400-80D3-6E72F214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D04B5-F390-4774-AFF5-A3111814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D1D21-5A37-47F5-9199-B7C3CEFE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FDB38-FC93-49EB-9734-D1743CFB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50786-799F-4AF7-8CDA-1C062F1D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EEA11-E8AC-4586-9212-E05EBECA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12AA7-92D9-4B44-AD13-2E7A8DDB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32A62-E2B3-42D5-A3CC-4298C76E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179C3-4A65-44D8-A3D8-ABF12DAE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96655-2247-4EAA-9A81-F81E9B0E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C58-D635-4BF4-8CD2-CDED992C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AA4798-9649-46C6-AA8A-61960DCA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4CC72-C94A-45FB-A33A-D377DCCF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4E9C1-644D-4051-83B8-8D0C5BFF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7493A-1E4A-4481-8745-13BB80E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5938A5-7431-4C0B-997D-928F581F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660D59-53AA-41BA-B325-5B7589C8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C0C6EF-539F-42FE-A66D-5E4D2BA3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2F275-B741-447A-A501-A54F1CA3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81A93-DFBA-4CF6-B7FB-6470D7E5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E3381-E5B3-4D95-B028-B3A7CA90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976-BE38-4D8D-8FF6-F6DC0925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471BB-348B-4681-A0D4-5883F737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52C43-8321-4CCE-82CF-2BCD0BC3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BEA46-AB9C-4D59-A324-2F926356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19097-D218-4C0A-A76A-25CA6856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DE215-9C34-4769-8C7E-0E956A36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B9A44-5D5C-403F-8539-65BA054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360AB-F621-435F-B0DE-367FA4E2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55225-4BAA-4994-BBC1-8AF2A13C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A0F32-4B31-4D12-AB30-D1345441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9BF5E-E665-43AC-981C-28D63509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3C2-D16E-4BD8-9457-401ADF4D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0EFBA-8A9D-4C71-BBD2-326608B4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C1018-25DE-42A6-B63C-56C68EA8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6FF1A-CBC3-460C-9870-9510A4AC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3F8F7-CC5C-42B0-B93A-447AF7A5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DFF33-4024-4012-8E3B-55A7693B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BBCBA-7C4D-478B-B733-3FB55D74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D7C88-9D1F-49CA-9DDF-923C9B74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90F92-041F-4ECE-8AEA-6506A01E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9F030-0709-4B3A-B683-AA161149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7C67A-3105-4C5D-B9D4-237A1993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DA5-4D27-4275-A6CB-45E1C3B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449FA-C2F3-4204-AC7F-8A191F94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78305-395E-4D50-8F5F-EFA19321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F345D-8316-4093-A36B-43B160F7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CDCC3-5E60-4346-B946-C8C3C902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FAEEF-992B-429E-B64C-EBD7060B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BA078-A981-424F-82DA-402ABD84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BCDB0-DB96-453D-AF27-212B21CD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D6DC2-024C-4DDB-8B23-E9006CFB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E35EA-E490-4C94-9BE1-2B48B009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64865-C3DE-438B-B82F-A931E02D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BBB-260B-4A43-9BF9-5BC15CB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8B2A2-9ECC-4039-8FBF-39781CA0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D8C0B-EAD2-40B1-9611-920A834C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5F24D-2BC0-4E4D-B1CC-473F8501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88285-7DEB-4769-8589-6D84E4B7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DCD00-F7C1-42B1-8C76-3DF7EB74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C66DD-392C-470B-BCC4-964EB1F9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AFAF1-131F-45D2-9083-226DE5A4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3BC18-B6F5-4D0A-8CD5-52462887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8200F-A96B-4127-B3FD-0DF10F52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607F0-F535-46B1-89CE-ACCFB70A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AFF-B0A9-44C5-8E5A-3AAF1E0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66162-20F1-4C55-96EE-0D2913EF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CFAF3-EF08-474C-A28B-7044D1E7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1D697-9BFA-4527-B86A-B4664D4D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0FF85-4EDC-4B9D-8BE0-EC49AD58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F318D-C70C-43D1-A48D-760556B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A3129-7B9A-49AF-88A1-A202CE49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D7A2E-F1BC-428B-ADBF-CC604899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CCAA-06C7-4B65-94F8-232DC8888B3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0756-93D5-4D74-A4DC-BD81F5DFE67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EE63-DCF4-4BF0-8DB1-ADA5BCC1FC9F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9B03-CC65-42B7-8E46-D75047DEC75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C50C-5B9D-4FB1-84B2-18A23FB155B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CFD2-5327-4D72-AB3F-AC1CFF378D2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F97E-EDD2-422A-AC6F-DF64478EFBE3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73BF-58A6-4B8A-9AC8-10FD8D0B1CE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g6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THE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s/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ssons/Ex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or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offers teachers a vast array of teaching support and staff development includ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quiry Proc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-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uilding Blocks of Re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avvy 7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lip I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Research Cycl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w Cen MT"/>
              </a:rPr>
              <a:t>Eight W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5486400" y="350532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838080"/>
            <a:ext cx="44956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9" descr="C:\Users\Mandy\AppData\Local\Microsoft\Windows\Temporary Internet Files\Content.IE5\VH7VPNAV\MCj04238420000[1].wmf"/>
          <p:cNvPicPr/>
          <p:nvPr/>
        </p:nvPicPr>
        <p:blipFill>
          <a:blip r:embed="rId1"/>
          <a:stretch/>
        </p:blipFill>
        <p:spPr>
          <a:xfrm>
            <a:off x="3670200" y="4267080"/>
            <a:ext cx="1803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4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4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5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5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. Students will consider if their current style and approach works well for problem solvi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Ste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0840"/>
            <a:ext cx="8163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3T03:00:35Z</dcterms:modified>
  <cp:revision>37</cp:revision>
  <dc:subject/>
  <dc:title>Inquiry/research process the information literacy solution</dc:title>
</cp:coreProperties>
</file>