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ECC-4E4D-478D-9B72-D3E9E2E0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0413-B19D-468A-881A-D78D75F7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94FA-3EAB-4A33-8E1F-749E7AA4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E9E-1DEA-4EF3-8296-8E07289F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CF4D-157C-41D0-A52C-010BE0AC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E8D4-D594-4145-9A3F-7A58EA86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31F-A2AD-4FFB-9AE6-2309218E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971-3281-4457-8A75-84FADD7B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550-3BD2-4F8C-95E2-6FD8562F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321-64D8-4072-B066-468367C7A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F88-B154-42F3-A59D-1DAF0ED8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6AE-A984-4742-8991-F29660B0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676-88D7-43F9-A752-E096F426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C8C-2A53-47D8-A7B0-3616EC2A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FD02-9842-4574-92CA-C22ABE90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D039-A49D-4EC5-AB36-3FA1EF4F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719-CE4B-4681-9022-4B89DFBF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937-DA0F-4433-B12D-BF3D779E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81B-D345-45BB-AB7F-F1880AF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421-C3B1-4ABB-B810-D4AA42C5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B09-8CD9-42FE-BF59-FDFB204E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35F5-42E7-48CC-BFEA-BD5C419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1C30-BE45-4830-9884-7FE53EE5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415-2623-48C1-9064-14DF797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8592-4C8E-448B-95F0-E834035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855-4790-4787-9F7D-B8FAF0B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AF6-F754-4496-A26A-1959CD7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756-A1D5-44A3-991A-ADFAA809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F79-9126-4B2C-BA02-7E9DDC1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062-0803-4AE7-A257-20443BB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07A-6E80-4AD7-9F5F-2A41DF06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F53-06B9-4528-A44E-C4B42678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287-0FB5-418C-BB1E-B32E0C45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8FB84-370D-4BBD-B923-B1DAD6A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E4206-1296-4D0E-90A1-9D879FA2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0570D-782C-4D76-B405-D49C719D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6F58C-7DF1-4056-95FC-458A394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49939-8940-4E5C-91B0-9E9E4CC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C59-863B-4381-8E9E-D7A04CA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D66B8-0BA5-4BF5-BF8D-E851608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9370A-C09F-4D42-BB9D-CDE53A2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BEF49-0936-4876-ADC7-9022A89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E330C-EDD4-4282-BC30-0F61318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DEEB4-56F9-42C2-AF9E-1305EAD5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821FE-F386-40D2-A77D-484F8E8D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9F176-5CAC-4C38-8F0D-9D7E5906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FEBE0-BEEB-46D9-A0CA-A0F7D411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C93CE-D785-45A0-8472-79C8F50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17CFE-6A84-49CF-AF4E-2B74104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0AB-E692-46CB-ACF7-B67AF2B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32074-12B8-47ED-9877-6FB91BB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5D414-B0CF-492A-A86D-EFBF003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4CE5A-11BB-4A00-8D12-E3F4E04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35AE5-72FA-4F4F-BFC1-935A086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E969E-F110-46E4-9709-40B0F4F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ED19A-473A-4D0B-88DF-8906B8D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E8512-05A1-419D-8887-D9F3E828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8AB5E-EE0F-4EFE-A257-3D4FF20F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70B88-6E32-4BCA-A506-095A99E5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956C5-0B9B-458C-AC91-01766B6B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ECD-31DF-4404-A98B-6662501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ED99C-5983-4468-9EE3-E58AC080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B6CF8-5DB3-4827-8101-70852793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93CE7-FC5A-4B83-A6A9-49429C9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C98DC-7D7D-42C5-B306-777E833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32DD8-2F89-49D2-B561-46F01BB2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45ED4-7768-4154-AD49-C4484DC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88403-ECBA-4A73-9EED-6C5269A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5B29F-1D6F-4B5E-92DF-E28D191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1069B-B8F4-44B4-83DE-31E5A83F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E1765-3FB1-48A0-B109-58B42FB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B7A-03E4-4075-AA7A-C6FB5952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73566-CD0F-4E66-A1C4-137221D7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02CA-9A00-4437-8F70-DF5CB11B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F0426-9735-4D2D-819C-25795AA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C8EA-A211-4B10-864F-16226DCE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A966-A093-4D0A-BB15-4F8CE231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B412-E71D-4C7B-9677-102078B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E984-A374-44D6-9387-ABBF93FE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5FBCF-0D1A-4E0C-863E-F965778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B98E-F0AA-4A73-B378-C0B3DAD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1A69-1B48-47CC-B8AC-F96408F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093-DE44-4FDE-BB1B-7EFB262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3A34-C45D-439B-985D-A4E85DC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57E2-FD87-4794-A698-D53B4E00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2528-321D-4193-AB31-ED652ECF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DA69B-88EE-4BED-B480-67E14FBF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E3042-AB7B-4B19-9270-C8AC056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BA7A0-654F-4A12-8E0F-600A371E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90991-FA36-48C9-80D6-1E1F144D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C1122-A90A-450E-A3CF-41822881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82957-5756-497C-8E27-FD73ECA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A2342-22A6-48D2-8623-64E0C4CF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36F-949A-4456-AA00-9F753C0A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F02EF-6789-4EE8-8E43-CDCF322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2374C-EF92-4A3E-B224-F031252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26CCB-E685-468E-9B9F-7FB0711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F3489-459F-4789-B211-6E459513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FC002-03A8-47C1-A23A-8E55D7A3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ED43-2409-4373-B094-15B02DBE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BA382-1308-4F1A-AF39-2896FBB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93D6-0D11-4564-A4B7-4EB89BE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AB01-4DBA-419D-A4E9-21F5C4D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5BE4-AEDF-4D25-B385-C83AFDA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4C9-1D3F-4219-B0B3-D9034B0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87A9-3A09-47E2-9F0F-513FD21F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9A5A-D678-464E-BDD0-93ED02B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B827-0B4E-4301-AAA4-6DD017E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A27D8-2BEE-42CE-AA4E-E01AC3E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8C22-BB30-43B2-AAD8-818AE118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563C1-26A6-467F-A0A7-05EA862F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A0DA6-5EF6-44C3-9164-1066CD18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E4D-AFDD-4947-89DD-6F6ABAA8795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C923-94B4-4ADB-AFF0-E00056A16F7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EF2-1E29-4B51-B476-C6BFB5CA780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DA6E-7719-48AA-9A1D-5AB287AF4D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444B-E4E4-450E-A1E5-19F60A26BA6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790-8FE0-41BD-BE86-C1BE4DD1525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9D8E-9C76-4ABB-8F67-4C5D4A364DC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F1E7-0E9C-47EE-BA66-BCA14EEFFAB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g6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or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fers teachers a vast array of teaching support and staff development includ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5486400" y="350532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9" descr="C:\Users\Mandy\AppData\Local\Microsoft\Windows\Temporary Internet Files\Content.IE5\VH7VPNAV\MCj04238420000[1].wmf"/>
          <p:cNvPicPr/>
          <p:nvPr/>
        </p:nvPicPr>
        <p:blipFill>
          <a:blip r:embed="rId1"/>
          <a:stretch/>
        </p:blipFill>
        <p:spPr>
          <a:xfrm>
            <a:off x="3670200" y="42670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4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3T03:00:35Z</dcterms:modified>
  <cp:revision>37</cp:revision>
  <dc:subject/>
  <dc:title>Inquiry/research process the information literacy solution</dc:title>
</cp:coreProperties>
</file>