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AC91-D172-461F-AFA5-7D77DF0F4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8A51-659A-46ED-85B1-8E40A591E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D45E-DA29-4A68-A4C8-5A2329C55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EC00-2833-4C47-B217-8E4783440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6BEE-0C7E-4466-8D77-593D3EEE0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DA32-5581-44A1-A74B-4569E56DF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58FB-A8AF-477D-916A-31E560EF3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29C2-4B2B-4759-B9C2-E4CCDF2AB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93B1-2316-4FF1-8FF6-C94B1BCD1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449E-322E-4354-8F40-41435CA60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F3EC-CC0C-4867-BA81-6F2F48885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28D-9BD6-490A-808B-CA2CEA8F0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3327-637A-438B-B653-61432712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64E0-4139-48EE-AE86-80EBEEE6F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FA5D-3D79-4ACC-886D-DE1BC3FB1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D9F6-7EB5-4C70-8365-EE1FA8CD6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5D4-56D1-473F-8825-C22A14F5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329-B2FB-4FF1-806B-76FD587F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AD1-26EA-45BC-AC13-330C58BA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9E2-C476-4D8F-96B2-0D61F2F0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28BC-BC04-43E8-892A-8690B3E9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A58E-4DF7-4549-A65E-F4C5B195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B3C9-0DE0-4543-AA60-92C13742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07A6-2030-49D4-9B19-F999B511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CFE1-2A5C-461E-8E72-4B66808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F01E-381C-43D2-808F-8C22F600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2882-B128-4BDF-9921-DBE8E0B1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6D3-2EAB-40D3-A39A-D7EA752C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9B12-A8F0-4C7A-8897-A617AF71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D918-9DB0-4F3D-9A6F-EBF7D12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D179-4D88-48D2-A9A9-E23818F1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A364-3353-446E-A2BA-0D2C0ABB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C3A6-49B2-4232-A091-E42B0CF7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8913C-4E45-4226-A07E-33030462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B3907-D9C0-4616-81C2-BCD0CDBB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C1300-D22C-4A46-B27C-AC2FAB89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53278-1A87-4E8C-B9D1-B6F96F6A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3D891-B3CE-4133-B577-343A3CCF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8D0-36C4-45A1-B209-7E8116AD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E9211-39C3-4424-9D78-16466D00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372C6-74A7-4BC0-95CA-4F06F160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32045-F140-41E6-8459-188C9AEE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1E39B-C367-4FD3-9BA2-181A7FEE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C347F-7F8D-4541-8FAF-8034DD00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F6BFF-A714-44CB-8399-55F95540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60CB1-9A84-4DAA-B227-541D7436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77DBB9-990D-4DDE-BA01-95B8621B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35369-5777-4788-84BC-850F9E19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FBAE1-5CFC-4AFE-A189-96A5C35D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7A7-3275-4AA3-9ED2-7D1BE5B4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FE048-0C85-45F9-AA1B-AE8B778D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EDBF6-5FCC-427D-86B7-BD92836E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5847C-546F-41AA-A67B-6DC408FE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C5314-8246-4DEC-A7FE-133FA6AE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39F22-5135-4882-B58A-53A2DFC8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104E0-D055-420B-AD80-BDCFB965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3429D-AA3B-4570-BFC4-DDFBA801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5E0D1-1BA8-4EA5-8D6C-6D31FB04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187BD-0652-44C6-A64E-EF83994D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B59F3-DBF7-4C03-A4C9-241268DC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8C4-8479-4C56-8425-4BDD41D2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94B8C-71AE-4DF0-A02D-F782FB04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E9457-BF14-44AA-A4CF-45025617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13A95-06D2-4E0E-B304-DE63255F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5031C-1740-4C7F-8F24-D064ED64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95363-BFCE-4262-9D08-0916CD80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921F3-19B4-4B35-874D-C6001022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E8705-697C-4949-929C-CFB873ED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50D44-0E39-41A5-ADF5-8FF8CF5B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807A2-CCA5-4007-B09E-43765C7E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54CE2-B1DA-4B57-AD31-1CF71085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805-574E-43A8-84E4-CC23B2DA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5D206-E230-4E11-803E-34A8D3BC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63560-1672-41F1-873D-43212EE8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41B9A-12AD-47BD-972C-E456A417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6F525-5057-4637-AE11-E54AF3C3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8122B-2615-4440-802C-89C6E51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260AF-6B43-48CE-BB02-8F809203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8E3E7-6F31-4EB4-8E65-BB10A34F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FE891-0BAE-4B84-B4FD-D845F29A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C7ECD-D897-4DB8-A4BE-C9118E23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55ADD-969D-4E7D-9578-2D4AD1CF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4F7-2BE6-4E12-A595-200177EE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0396F-5898-4A2E-A95E-BBB659DD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EAD57-5960-495E-8C5B-AAD80888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9FCD6-D4E3-404D-AE28-04CF5A41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08766-010C-470A-AFD2-E46D5EFE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EF2A8-DA21-4CA4-9717-0F533334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8FC48-ACC0-4165-B395-95B375B6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0118EB-168C-4F21-92AB-EAB757AC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27C90-DC8E-4586-A939-A199FF3F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8BB1A-BB11-4DD6-920F-28367921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E760E-9CA6-45C8-8F32-00296759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DE3-87E1-4C83-81AA-B9924747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18550-86FB-43BF-B7CF-A350741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30134-5905-4F60-86A3-0257BA08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9E15C-E312-444F-9BD5-B2299B02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37FCC-198D-4175-8F26-0B38A8B1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A5535-4685-4C71-A6D8-6F34CB5B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08EC9-E089-4203-8833-8278E9D4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63C5C-A21C-4C7D-814F-9C326444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A574A-DFFD-41AA-9403-4396C533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E2F4B-7C4D-473E-8D31-9A0E2246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51186-51F7-4C9D-A623-9697263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E90-9B25-4DD4-87DC-4132D8C4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107A-5654-4FA9-AAF4-8A31C1B1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66F15-52D1-45AC-8D07-EBE53D3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0827E-5D31-4DC0-A008-86AAA1CA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A9A7C-28B5-4B37-B0FC-D5BA78EB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692A8-C09D-45DE-A15C-39EBE188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0FA6B-8C0C-41A3-9876-8FBFD05F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B81BC-706E-4AA0-909F-4E578FA8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3F3B-822E-4178-A65A-2F60F5CACFB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EAA7-3F94-4D8A-B947-21840B1D34E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378C-654F-4EA6-8070-8023253DE74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9E4B-A990-4127-80A2-BFE5982FF34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BAFA-D378-483E-A77F-8F85A50319C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2CB6-259F-425C-A843-D1E7A275E41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EFAD-0CD4-413E-9C9B-3595D692AD2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1102-3529-448C-BD29-C214269F866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g6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THE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s/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ssons/Ex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or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offers teachers a vast array of teaching support and staff development includ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quiry Proc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-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uilding Blocks of Re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avvy 7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lip I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Research Cycl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w Cen MT"/>
              </a:rPr>
              <a:t>Eight W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5486400" y="350532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838080"/>
            <a:ext cx="44956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9" descr="C:\Users\Mandy\AppData\Local\Microsoft\Windows\Temporary Internet Files\Content.IE5\VH7VPNAV\MCj04238420000[1].wmf"/>
          <p:cNvPicPr/>
          <p:nvPr/>
        </p:nvPicPr>
        <p:blipFill>
          <a:blip r:embed="rId1"/>
          <a:stretch/>
        </p:blipFill>
        <p:spPr>
          <a:xfrm>
            <a:off x="3670200" y="4267080"/>
            <a:ext cx="1803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4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4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5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5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. Students will consider if their current style and approach works well for problem solvi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Ste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0840"/>
            <a:ext cx="8163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3T03:00:35Z</dcterms:modified>
  <cp:revision>37</cp:revision>
  <dc:subject/>
  <dc:title>Inquiry/research process the information literacy solution</dc:title>
</cp:coreProperties>
</file>