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move the slide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099DA-8B4F-4F43-8FC4-8D2BFD2313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234A8-BF4E-4493-A04C-E22D3B9511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F57FF-0E5E-403F-84A1-B48679E69B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2D8B2-0FED-499B-B06A-60534C9B3C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8C01D-316E-4614-9E53-4577DB178A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1F7F9-D826-4D53-9C8A-75561CE108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81A31-1416-485E-9F90-1ECB7A5095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A29CD-1203-4DF8-AD1B-D1D5A9E570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86214-8986-49E1-9DC3-8523BFD617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BA8A1-4ED6-409F-A478-1000B25420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D9366-7B52-4727-A490-596AB7967A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510A9-179F-4339-AF64-AB4C86D84F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A3CB5-2BF8-4E09-A3FC-553B991E64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AF793-476E-49B0-A102-97637B261D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B7F66-4204-45CB-8DE3-BB04166F49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8B6F6-EEC7-4414-9A88-77DF91410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5E5EF-56C4-45C4-B358-C9C28A1C8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290F5-E499-4816-8D5F-C1D622CCE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1D1A2-CE62-4903-A300-75318CE19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BB8C0-18E1-46EC-B3EB-9EF8F02A9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84658-A22C-4FE9-8C6A-0BECC30B1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A35C2-C7FD-40AC-A24F-63FA3C486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E4A55-A24E-4219-B0FB-AF151FFF8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0AC15-0733-44B6-AB0D-87E7CEAA1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8BDA9-1288-408F-9B6E-57ACD3F3C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24371-8862-44E5-A9F4-747F91966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0F7A4-534C-448B-906F-EEE48505C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AA21B-A8E8-4605-9F45-96200676D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0392C-EA5F-45F2-BE44-1F976B1CD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0AD99-F428-4567-B081-5DE85B020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A7D73-1673-4620-9630-2ADE0A069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918AF-20BA-4690-905B-CB6843C85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BA2D73-35BF-448D-ADC2-9A6F931ED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934610-3236-442A-90CB-EF4757B7B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EBAF05C-8385-474C-81B3-F73B985BF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BAA14EE-8761-4992-9414-A9F4100B6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0760418-F85A-484F-B367-26F150F9D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711F7-A135-4E9F-9E49-EDAF796E5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D6C3939-BB49-4440-B023-9E6C02333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CBC8221-5D82-4B51-AC89-E606D34ED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DE53322-BD9C-4862-B2F7-9CE9DA7CD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DCAB13-84B4-4A00-99F3-146407BD6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3EF2649-A1B9-4C59-B5B4-7928E26E0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4EB37E5-80C1-4CC7-82AB-BC3282FC1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2F2BAC0-09C8-4226-AA0B-809B14444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7F506BD-DC09-4C8E-858C-F375EB065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3088453-D6DD-4C30-B5F3-A913427F4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EDB9AB1-90FA-4826-973E-7C0A2101E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9DD57-DFBF-4C07-8544-51146B400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615CDC5-7A11-4561-A58A-9D739BB3D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2A0AF45-39B7-4E6D-B359-1E28FAE6B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932503F-B265-45AD-B2CF-1E59F03BB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0E8AD01-8BE4-4B67-8E7F-99E85BD31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730000A-FA49-4B1E-8DAB-794C99D17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F29B823-96FB-4BF5-A4D2-E9A2F3E31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CCADC4D-0BA5-4906-B3D9-E65E98677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035B6B9-680D-46E2-A368-D7F951E2F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CA059EC-749A-40DD-9460-BB04BD1BB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1375ACA-FB29-4285-B88C-6C648180C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B3876-8831-459F-8A92-F1EDBFA28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362FAE0-AFAE-4358-B77F-2F6F9480A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E24D71F-B662-4C80-8A1F-D1D042B5D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29C778E-DDBA-411D-99C9-167DB7D66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85941A7-BE72-4E73-98FB-D7658B691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D0903CC-26B0-4CB4-8229-50856C3F8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2776BAA-58AE-498E-A6A0-FBE8644AD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0157D0B-149D-4BE0-B134-7D1063C1E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D5BCCC3-48AD-4FB5-B1C9-0EE6B7549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2913CFC-CCC1-4C7F-BC76-982925498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1AAE87D-7753-44EE-9929-1CD8A286D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D22FF-8FFF-4A7C-BCF5-FEBB93E69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97F8261-6659-4D59-9989-A0602C189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E91B4E-E34E-4CBC-939B-30BCE2645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BEF342-E2BC-4AD1-8A36-502FB57AC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70057F-5174-4F9F-8903-A3603802F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CD8D4F-0A0F-4BE2-829D-B407B0C7B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8DCF51-EAB4-445D-B82B-D90224507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372DE5-4836-43F4-B06E-85E204B6A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F82002-64AB-4684-8997-B520F84FE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65722B-4CA3-4E72-AB66-F5E46B8B2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39C9E5-70DE-4D03-B956-85B5EB47D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D8CD8-7644-4DD4-A99C-19E1DCDC3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935166-4CC1-43F2-B616-3A25A084C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008AE3-0581-4129-855D-62F24A99E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AE4DC1-EFEE-4768-A782-C10004450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57E5940-6E4C-4D08-9C1F-B15444C42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A6483EB-CD32-42B2-9184-9BB263F99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43FBFEA-BC10-4F59-977E-8F6C8A58B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6952B65-42C6-4911-AF94-A6D1484D6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335670D-E6A4-441B-BC25-1FB55A22C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1B9519E-42A9-4B21-8B19-842A18FAA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0D77790-491D-42CA-939F-3CC23AA79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16BDB-1BD5-4F27-B5BA-4880B1F75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B70839E-C449-4A76-AC2B-8BC6E6CF9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EDEB0A7-0BD8-46A2-BB93-0B18EF10C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D20A9E3-6F02-4448-867A-3FEF490BC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1170342-FFC0-4CA4-8843-B90C2B085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FE32B73-9603-471E-B839-4C67FB13D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EB3828-8513-4200-8A96-2DBED07E9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CAD963-B7DA-4E62-A84B-743259A3E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6DDE74-FAC2-4D7E-8A97-3E51FC522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E3ABBB-B241-42BE-BB26-18A2EF32E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1D4E53-E1CA-497A-9577-C465F9BB5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EC615-E524-46E8-AA70-4A83BD9F7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FFDD43-CE03-426E-A86E-DD0FCC59F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F7CB34-F0D5-4CE7-9904-D10F3A077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38FE14-334B-4050-8D8F-3B4316756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9D6AF0-7FB0-4D96-8C25-E0D144884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08ADF9-C01C-4AD7-8EA4-FDB7FC670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99F4B2-C6ED-4CDA-BD0B-25C15C6C7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0E8BD1-D7DF-4074-BCE3-EBF2017A9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828BD-766F-4954-9192-BAAFF9D4CC1C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bddc3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C9D0C-F7D8-4545-B59E-DBA511DB7559}" type="slidenum">
              <a:rPr b="1" lang="en-US" sz="1400" spc="-1" strike="noStrike">
                <a:solidFill>
                  <a:srgbClr val="ebddc3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A6E8E-2E53-4259-B9BF-09258274911D}" type="slidenum">
              <a:rPr b="1" lang="en-US" sz="2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D5A5E-D0AD-4C12-9F70-3C175ED432DF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8E7D3-AC9D-4C18-91CC-F28919516F73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36AEE-61B0-4286-AEA4-530BFCB2320E}" type="slidenum">
              <a:rPr b="1" lang="en-US" sz="1400" spc="-1" strike="noStrike">
                <a:solidFill>
                  <a:srgbClr val="775f55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5EB66-B7DF-47C5-A43E-86FF343D012E}" type="slidenum">
              <a:rPr b="1" lang="en-US" sz="28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FF3C2-7309-451D-98F9-EE18C18641A7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294920" y="2666880"/>
            <a:ext cx="7543800" cy="3200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ebddc3"/>
                </a:solidFill>
                <a:latin typeface="Tw Cen MT"/>
              </a:rPr>
              <a:t>BIG 6:</a:t>
            </a:r>
            <a:br>
              <a:rPr sz="9600"/>
            </a:br>
            <a:r>
              <a:rPr b="0" lang="en-US" sz="2800" spc="-1" strike="noStrike">
                <a:solidFill>
                  <a:srgbClr val="ebddc3"/>
                </a:solidFill>
                <a:latin typeface="Tw Cen MT"/>
              </a:rPr>
              <a:t>THE INFORMATION LITERACY SOLUTION</a:t>
            </a:r>
            <a:endParaRPr b="0" lang="en-US" sz="28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w Cen MT"/>
              </a:rPr>
              <a:t>Mandy Dempsey and Kathryn Stephenson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Uses/Integration into Curriculum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Lessons/Example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Support for the Proces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onclusion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Works Cited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The Problem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Inquiry Process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I-Search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Building Blocks of Research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Savvy 7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Flip It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Research Cycle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w Cen MT"/>
              </a:rPr>
              <a:t>Eight Ws</a:t>
            </a:r>
            <a:endParaRPr b="0" lang="en-US" sz="34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00200" y="464796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</p:txBody>
      </p:sp>
      <p:pic>
        <p:nvPicPr>
          <p:cNvPr id="362" name="" descr=""/>
          <p:cNvPicPr/>
          <p:nvPr/>
        </p:nvPicPr>
        <p:blipFill>
          <a:blip r:embed="rId1"/>
          <a:stretch/>
        </p:blipFill>
        <p:spPr>
          <a:xfrm>
            <a:off x="1560240" y="-360"/>
            <a:ext cx="7583400" cy="4568760"/>
          </a:xfrm>
          <a:prstGeom prst="rect">
            <a:avLst/>
          </a:prstGeom>
          <a:ln w="0">
            <a:noFill/>
          </a:ln>
        </p:spPr>
      </p:pic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600200" y="548604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w Cen MT"/>
              </a:rPr>
              <a:t>What’s a teacher to Do?</a:t>
            </a:r>
            <a:endParaRPr b="0" lang="en-US" sz="48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64" name="Picture 8" descr="C:\Users\Mandy\AppData\Local\Microsoft\Windows\Temporary Internet Files\Content.IE5\I33D4CIP\MCj04114940000[1].wmf"/>
          <p:cNvPicPr/>
          <p:nvPr/>
        </p:nvPicPr>
        <p:blipFill>
          <a:blip r:embed="rId2"/>
          <a:stretch/>
        </p:blipFill>
        <p:spPr>
          <a:xfrm>
            <a:off x="2819520" y="838080"/>
            <a:ext cx="4495680" cy="35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09120" y="272520"/>
            <a:ext cx="8077320" cy="87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775f55"/>
                </a:solidFill>
                <a:latin typeface="Tw Cen MT"/>
              </a:rPr>
              <a:t>Never Fear</a:t>
            </a:r>
            <a:endParaRPr b="0" lang="en-US" sz="6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1600200" cy="4343400"/>
          </a:xfrm>
          <a:prstGeom prst="rect">
            <a:avLst/>
          </a:prstGeom>
          <a:solidFill>
            <a:srgbClr val="dd8047"/>
          </a:solidFill>
          <a:ln cap="sq" w="50760">
            <a:solidFill>
              <a:srgbClr val="dd8047"/>
            </a:solidFill>
            <a:miter/>
          </a:ln>
        </p:spPr>
        <p:txBody>
          <a:bodyPr lIns="115200" rIns="115200" tIns="72000" bIns="720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2362320" y="1752120"/>
            <a:ext cx="6400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w Cen MT"/>
              </a:rPr>
              <a:t>BIG 6</a:t>
            </a:r>
            <a:endParaRPr b="0" lang="en-US" sz="9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w Cen MT"/>
              </a:rPr>
              <a:t>IS HERE</a:t>
            </a:r>
            <a:endParaRPr b="0" lang="en-US" sz="9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What is Big 6?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02760" indent="-3027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Big 6 is: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An information literacy curriculum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An information problem-solving process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A set of skills which provide a strategy for effectively and efficiently meeting information needs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775f55"/>
                </a:solidFill>
                <a:latin typeface="Tw Cen MT"/>
              </a:rPr>
              <a:t>Why Should I Use Big 6?</a:t>
            </a:r>
            <a:endParaRPr b="0" lang="en-US" sz="5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280440" indent="-2804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Big6 uses a multi-level approach so students can develop competency in information problem-solving and decision-making that will carry forward into lifelong, useable skills (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80440" indent="-2804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Big6 integrates information search and use skills along with technology tools in a systematic process to find, use, apply, and evaluate information for specific needs and tasks (Robinson 11)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80440" indent="-2804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Big6 skills are not taught in isolation, but within context, current curriculum, and everyday experiences.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80440" indent="-2804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Big6 can be applied as a thinking process to deal with most problems and therefore can be applied consistently and repeatedly throughout the learning program, thereby increasing a student’s chances of learning it” (Hughes 28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 </a:t>
            </a:r>
            <a:br>
              <a:rPr sz="1200"/>
            </a:b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Big 6 Student Benefit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tudents will: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Learn transferable planning and organizing skills they will be able to apply for a lifetime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nd, sort, and apply relevant, credible information to creatively solve a problem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Prepare a solution based on reliable information, and give proper credit to information sources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Achieve results using any individual learning style. Students will consider if their current style and approach works well for problem solving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Understand general problem-solving concepts and then refine each skill to learn and perfect specific detail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Big 6 Teacher Benefit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09240" indent="-3092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w Cen MT"/>
              </a:rPr>
              <a:t>Adaptable:</a:t>
            </a: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 Your current units and lessons can be framed within the Big6 context. Big6 compliments standards-based curriculum, and has terminology to fit student learning in grades K-12 and beyond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w Cen MT"/>
              </a:rPr>
              <a:t>Flexible:</a:t>
            </a: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 Emphasize one Big6 skill or all Big6 skills throughout a school year, based on needs in your school, time and resources available, and library/classroom partnership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w Cen MT"/>
              </a:rPr>
              <a:t>Collaboration:</a:t>
            </a: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 Big6 facilitates communication among administrators, classroom teachers, and teacher-librarians. The Big6 is useful when you need to coordinate cross-curricular projects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w Cen MT"/>
              </a:rPr>
              <a:t>Training:</a:t>
            </a: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 Big6 Trainers are professional, in-school educators. Big6 workshops are tailored to meet your local needs, and the Big6.com website resources provide ongoing suppor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The Big 6 Step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77" name="Content Placeholder 3" descr=""/>
          <p:cNvPicPr/>
          <p:nvPr/>
        </p:nvPicPr>
        <p:blipFill>
          <a:blip r:embed="rId1"/>
          <a:stretch/>
        </p:blipFill>
        <p:spPr>
          <a:xfrm>
            <a:off x="609480" y="1590840"/>
            <a:ext cx="8163000" cy="45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1T00:57:56Z</dcterms:created>
  <dc:creator>Stoli</dc:creator>
  <dc:description/>
  <dc:language>en-US</dc:language>
  <cp:lastModifiedBy>Mandy</cp:lastModifiedBy>
  <dcterms:modified xsi:type="dcterms:W3CDTF">2009-10-22T20:13:08Z</dcterms:modified>
  <cp:revision>31</cp:revision>
  <dc:subject/>
  <dc:title>Inquiry/research process the information literacy solution</dc:title>
</cp:coreProperties>
</file>