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D2BD-0D55-4722-A7A3-652C139D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66B-500E-47BD-8B90-974EA7E3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71FD-8942-487F-AF90-5E7B26D5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9A57-3F9A-43A8-95DF-82DB9DA78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C7AE-DD15-40EF-AC57-3888974A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FA80-CF7C-4260-93EF-FE0ABA642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FDAA-6357-4CB1-BC74-85DD9B02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91DE-CF2B-457B-9E3F-D23C24D20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DC8-CBB3-4004-8883-2A43CCE3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CD25-B621-4135-A7B1-CBD1D9F8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6A8E-45DC-42B1-975A-A5E3DD072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1B03-3E87-4B5B-B447-85873F307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CDB2-EA14-44D8-9359-BB561B69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4FC-8BEB-47EF-93E6-0AA9E234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4C50-D980-44B9-B62A-896A52012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75B-0716-4870-9F42-55EE7C5C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634-556A-41D1-B1EA-34B1E80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01C-5F18-42CF-9ECA-082B166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5A4-9B38-4FCF-8150-8F84D3D1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E5E6-94D2-441C-83EE-1ED19088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294-28C9-4AB3-85CF-03101219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B671-47C6-4A38-8F52-F769078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82E6-EC82-4445-B57D-D08E932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3BDA-4818-4E6C-A952-3E15C45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BE42-78F6-4514-BF7E-C5150CF4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5251-B396-44E0-9122-9D6B50C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5AC-896E-4903-B8D6-4F22A272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163-3B70-4388-B68D-05BD941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C8DE-BB35-4910-9665-3F1F6ED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C2BD-62DA-4F44-8B59-71588841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0B3-B07C-4B40-8DD9-2FC436B3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8045-A97F-49DF-98D2-21A2EEFF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3288C-4515-46EA-87F8-7C8BE206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4A7B5-D762-4FEC-9D89-4A497BDE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4F6AD-53B6-4B45-9649-9E6969E2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4D401-608A-40EC-A688-DD7E3C45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F2FF5-127B-4FE3-AD2E-3A9C11A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063-8DF6-462D-AAA6-31EB100B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8A43A-A4D4-4137-95CF-F515265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18F6D-8557-4FA0-8AE0-F52CC357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C8700-F266-4E67-8E29-04FCE6DE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18A96-697C-4105-ADC4-1823556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3BC4E-4929-46BF-B544-9725D107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6E915-7D11-4314-A82E-1F1290C3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8DDCE-198C-4299-8A19-4914D1B6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C1943-519D-42F2-8CA0-F4C3723B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40B7C-71C9-4C68-9626-3DD932ED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F8C8E-A7C4-4F26-82FD-2821AC0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B51-DF60-442A-9287-7EF48F31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07237-5F79-491B-9C72-2D10F5FE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F308D-D59A-46DB-9D09-92BFC7BB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19D96-D157-46D4-B285-D4851EF9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74C85-6FF0-4868-9182-140121EF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A766E-99FD-4283-A33A-12A0E74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91E18-A6A5-4D8B-895A-78C6BB9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165A7-B0BC-4074-A2AC-E74430E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4CDBB-98C3-40A8-82DF-3F4A16A3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D6F0E-7B1B-42BD-9396-F8C79960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B6327-4B74-43FE-A26B-6582922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EDA-E2CB-413E-BDC9-C66A17FF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2D340-A799-4BE9-B0D4-D15A429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36482-86B9-4A6E-B436-BFF4D281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7D05C-197A-4360-8045-917FBD1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18509-E8E1-432C-8452-9712EA8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1F147-A02E-4088-A8AA-5FD9FF2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9748D-EBD4-4110-B3AA-374ECE19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5B78D-9F10-4F65-90B9-44F2E87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D347E-2753-4579-9541-7DD760AC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3B0CE-CA99-4533-982F-A7F29637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13E5B-2625-4A04-81E0-45D3D04A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D88-0F63-4F95-88E6-1046F0C4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18FA2-2325-4CE2-B191-29B27BF8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2663B-8E11-47A0-A51A-7F447258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C41E5-5D30-45B7-A1C9-52D2860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436E4-BCA6-4F9A-A2CB-087AF884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82333-F88D-4AE2-9C7B-4ACA5AA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066A-C98B-49A4-B20B-4677A216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3C17-D27C-4DAA-A7FF-83795A2F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2869-EFF7-4C0F-8360-94DA6C9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C870-72EF-438E-814A-94E821D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CD0F-0391-418C-9914-2276714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D88-965C-4793-BCE1-B245B2C0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3C25-0785-48B4-B4F8-F4CD611C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486C-B062-4348-A022-F0230991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70B6-F509-407F-9EF9-8BFD0213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E9A0B-F0DE-4EB9-9C8E-57970EC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F6700-5A4C-4277-91B3-CA9CE2E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8B43D-4E3D-46F1-A606-1ACEF28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8EFA6-B688-4981-B1CD-1BE807EB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8105E-268B-4CD5-B2C2-912B6F39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A46F0-FECF-4D7C-92E0-08B4D328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B9F7D-F869-430B-A360-58F94366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36E-AEB0-4575-973E-BAAFDE95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8A192-9DEE-4F31-B459-E5D6036E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83196-F498-4F53-B5AF-C0B231F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03851-BEE2-44B0-B457-0FE095D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AE753-B6B3-433F-8A1B-49C20A86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8FDAB-F028-46F7-A857-ABD95A80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4C958-0A6B-482F-BD2B-D70BE6E9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B2F3-2329-4D3B-BAEB-D3CAB3C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4CBF-8532-4461-81C0-20303E29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4F3BB-FC76-411F-820D-24E302C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B215-EFDD-4F32-B827-94FB3E21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98B-216D-4DB0-881C-F36B8FA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5E14-54FA-4C7E-A50C-BC89C9B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EEB0A-44D7-4553-8938-A717DE6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6B525-4869-4165-B156-4D27805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4BB5-8D36-468C-BEC3-0D2D6F6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61AB-9000-4075-908E-442AA39F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6CD3D-CDBE-4FF2-9F09-A19EB57D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2E40-5D12-42EB-9EAA-18A93132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1C66-5970-4B3E-93DF-EC907A69BB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8F16-170A-4B97-A241-408439F8B70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DC7-4BF8-4317-9733-DF53AEBF561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424-07A6-4BFD-9156-57456CEA7D0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8815-FE0C-441F-B1D5-E37AB1C2785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830-6C4E-456A-B92B-F161E05451B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277A-44C0-4960-9D2E-06A62C18005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0702-C495-43BF-999E-4A9B0C8AB3C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he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What’s a teacher to Do?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2T20:13:08Z</dcterms:modified>
  <cp:revision>31</cp:revision>
  <dc:subject/>
  <dc:title>Inquiry/research process the information literacy solution</dc:title>
</cp:coreProperties>
</file>