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C7FC-3A6D-4D6A-B897-36C40929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81A2-23E0-4635-827E-6A69458B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66D-BAC3-4E61-AA5C-8F26EF2D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7C3B-6B91-427C-A83C-98B7E754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9E1-5E93-4CAB-855C-962C7DA6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62B-06E7-46DA-B79F-075B9B7D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8FF-AB33-424E-A527-40ED4CA43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0923-60DA-4CC2-AA15-9E0E168B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9323-216A-4974-B3A5-25EFC1E52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484-0E02-4FBB-A8BC-C3569139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FD95-7B8E-40C9-8939-E2F71A27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CB5-488A-447D-A370-1C87F830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0AA4-B4D9-4DA8-8AE4-68E10E52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993-131A-456C-AB26-72196770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026-792D-40B8-9DF7-D2672497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A9E-CB88-4A08-A718-4EED4740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2D9-920C-4DBB-886A-C2E3313E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381-2DFA-42AC-9E41-365F76D9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EF0-0E64-45C9-87E2-B38F0189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567-9808-4300-9766-8F5EC394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B15A-240D-4932-A242-3B7DD8C5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C3DE-EB61-4DCB-948D-B5B8BA35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D8DD-1B5C-4088-9696-D2DB93E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9BB6-18EC-48CD-9E97-A9259673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12DA-6544-4CFD-ADA6-F7E7949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FFEE-249A-4D9C-9465-29C580D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AF9-5689-4598-BE01-291DD014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24B9-487E-4FA0-BEEB-D23980F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4A0-F7D4-4ED7-B876-4C389C25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A0F9-01B3-4CCB-897C-57718F1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A14A-62A8-4714-892C-51947836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FD7-96F7-4FF1-ABE9-E625BE8F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D9325-549C-46F8-8AC5-E8B70C08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B7C4D-5E4F-426C-9389-2C43A04B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CFF63-AA3C-447F-8032-3CC5CC50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A064D-96A9-4344-8F27-FC0E0BE8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90AD9-6C29-4E68-9F1E-35C71646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660-55F9-4A21-86E3-F75C9D1F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467FA-363C-4046-BDC0-C97D256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0739A-955B-41FB-ADB6-B0EE3345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89325-131D-4B65-95E4-0962F08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75D6B-9DD2-4782-9306-6FC6D276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D28AD-D77E-44A3-9F8E-42F1355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24183-1967-4824-9D24-F2AC112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CBA37-0355-408C-A9B3-6DAB344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DFC30-E5CB-47C0-B821-A1333F38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B0A14-29DE-487B-A4E9-2A0456D7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0DD37-8EEE-4DBF-A7CF-32254DC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06F-6617-4F45-BB63-231767B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3D4A2-8505-4B35-91CF-7BF2AEE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930BD-B4F0-4D5F-A2D8-9BAD74E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48326-F9AA-4437-97B9-FBF73371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0A61A-B36C-4C23-8855-E496467B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1D189-13BE-4E00-977E-093D9006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988C88-7599-45AC-9783-C78D56FC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6A9BC-C1BB-4681-B0C8-DCA5D4BF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980D1-627A-4997-9530-9E7C8C41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F4303-7CD6-4B86-A946-815B6871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B4845-4A0C-4E2C-8793-228CC9C4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304-FF59-4EFB-8BB7-D7B7CEE9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AC7E6-66D8-4CA1-8D44-979F16D0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62AED-B1E1-4E6F-9413-3088D64B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F9F5A-A351-4419-8FDF-92A78548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3A326-AB36-477F-BEBA-7B8C8AB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EB3B2D-01FE-42EC-8BBD-A78DA24A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EDA86-52DF-4C76-A3B9-80B21B2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83E2C-83D7-42EE-8D47-F8C3526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6B315-FA3B-40E5-BA71-08D0EA3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9ACB6-E8A4-4243-8BF6-A1A588B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1BDDB-8A6F-450A-8CBE-CB2B2539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C79-627A-4405-8291-CD966A66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117CF-92B0-4B17-BB7B-4E70E674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0D67-02DC-4035-9E93-4AC2E084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06AD-0D30-46B8-9C58-9941B65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AB403-0646-486C-9CE0-CECBB01B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17E1-8555-4E95-9AF1-1A792CBE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DB46-5916-4B13-BB56-575B309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68B7-329A-436E-8949-0FE886D6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15C3-3E20-4558-BD09-8919EA8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CEDB-FF65-499A-8C7D-C274427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4B9E-8EC5-4251-A296-3987903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CCF-DE7E-431A-8E9B-D26A85D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9A104-1422-4F9A-A52A-3AEEBCF8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37CB-74AA-4CD1-8C3D-2E593658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ACFF-1820-493A-ADE4-CBADFECF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B0935-CF57-495F-B0A6-868D70B7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D02BD-D7D1-4A40-84AA-DA9ABC6C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1E1C1-F310-454A-8A67-E509440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18F39-8CA9-4407-B1CB-B38D9682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07976-9E55-40A3-8AD5-FF0EA057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B924B-46C4-47A7-A676-D74E7AA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75B66-1965-4976-9985-78E96FA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AE2-DFD9-455A-B733-BEC2585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C1ABC-8B7B-4B05-B8A8-B75F4E01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F13ED-8A0B-4ADC-9BC9-BFBA8CB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83760-89A9-454C-8933-B02F072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F80F2-FD24-4B41-A211-2F5FC272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DA4A3-7A47-41CF-97FF-C4D06D57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61B2-A0E9-48D5-AD38-D9ADDC9C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31B49-788E-4E11-98A2-1E69CE74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AC56-813D-4683-934F-867A13C0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389D-1F1F-411F-9D5D-4C10EDCD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7C6A8-8731-4057-8606-ACE3D82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18E-BD19-4134-8B47-D067ED4A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464E6-DD1C-42A0-A8AF-E13B30A0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87582-B59B-437B-B5F0-FF22723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484A-140A-498D-B24B-A0AA2ED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0E0D-F29B-4305-8CEA-0117D4AA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17CD-87BB-4808-A89B-7329EA0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52ADC-5909-4289-A01E-B1EB0C22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0E6B7-5DBD-4339-851A-90BA67B6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EA3-7902-472D-BDBE-6513B18B137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937-546A-4516-9DA9-EA0734FEDE8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1D5-B12E-4469-B654-92786CB3D4E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A361-7775-4EE8-B210-4907DFC41C3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C24C-4FF1-4A00-A30D-2F268E502CB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7EBF-5547-4799-ACCC-5D8BD9224FB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29BD-5747-4BA8-B756-789782552BD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8A84-89A3-406A-BE86-AA06798C44C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he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at’s a teacher to Do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2T20:13:08Z</dcterms:modified>
  <cp:revision>31</cp:revision>
  <dc:subject/>
  <dc:title>Inquiry/research process the information literacy solution</dc:title>
</cp:coreProperties>
</file>