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0430-C489-4ED0-A4A7-74842721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5950-9691-4E5D-B3B7-80AC1067D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9979-AAA3-440A-AEBD-DF54B8FF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673-9FCE-4E8E-90F6-7F70B51B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FE03-9C3F-4381-A6BD-A7459736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C0BF-0508-4AD1-8508-A088C9CE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146-EF8B-4D23-B104-41D4A8AD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6D28-C222-4C87-9FBC-1AAC6C67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3292-D473-4D0E-8F00-63E54D56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6E49-95BA-4262-99A7-9D5B4C9F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4846-33B1-40FA-87B2-6DB23D69F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84C6-F5B1-459B-AD16-74CA2F80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71D-9EC1-491A-8A45-5B54D88E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966-1A08-4BD0-9392-A4367432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4F5-21D6-4A2D-BE26-DF291CDD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A09-AEF9-451D-ABD4-B31E7694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A4C-6713-426C-B381-ED0279CF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F40-62A0-48A9-A5ED-C5965CD8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3C8-CABD-4B0B-BE6F-D4901B06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F38-9DE9-412D-8BB6-ECCA35C0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00ED-2A7B-43B3-939A-CC4278D2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365C-4985-466E-824F-6DFE5BBA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CDEF-3D45-4996-8D1E-799EC927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50F4-CB67-473F-85C7-380B3FBB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DF7-1EEC-4841-AF26-3BB2CA5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B46C-C019-4067-A54C-BCB8D71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102-F0A3-4FF4-A2F5-89D0F37B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49CF-1D5C-49D1-92FB-E9C07D6A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E273-9220-493D-B0BF-FB61E52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B7F5-A6EA-4DFA-A2F3-B2A7F5BD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8B41-A7B3-4245-A757-A8C103B1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230D-7528-4A5D-8EDE-D8FCFBED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6EF8E-5144-431B-9FFC-F4343EE1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EDADD-5F4E-45EE-B9FA-714B08F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DAC14-A074-4ED7-9EF4-22E6F60C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88277-DD17-4640-8D1C-22A3666A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46976-FF95-453F-870B-A2ABEA0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210-46F0-476E-B23C-7345C6EB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74D94-68EF-4A71-B9CA-AEAEB9F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B7403-4413-447D-ABF8-840F01AD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69134-8105-4961-8E33-03B6EA3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F8BED-C973-4DBA-9D2E-356CE44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20279-179A-4AB1-9C3F-3B8AEC9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016AA-8892-4D36-A82A-9C5DB75F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D6FC3-1529-42D8-BE99-356083C9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81933-3012-44A4-AB5A-7F35E484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6C591-17B1-49DF-B074-9F8FBBC8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E7987-0A01-4BE4-B946-5F9C8DF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4E1-7C47-4229-9D34-9314B83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B9011-7247-4014-ABEA-CBCACBAA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BF760-EFBD-46D7-B151-1BDDDDC2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FFEA4-E2EF-4E16-B221-37C17A3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DA3AC-577D-4762-A9E6-D87117C0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5D7DD-93FB-4344-A019-1E445AF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A4FA7-3C09-47F1-AC69-662ABA2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67070-3BEB-4579-9148-BCBCB4D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B62FC-EED6-400D-86B6-B86FB89B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CC6A9-8CBA-403C-80FA-B64E0978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DA2C6-3FB1-4FE6-A443-68E04973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5EF-F240-45ED-9169-118FC8C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45638-1840-4B38-86CA-E2FEBF3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27285-7019-4B7C-9BF3-613B6786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A7E99-1EB9-464B-8594-61BE8E3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82340-5F02-45E9-8EBF-3D3BCBD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BC1CC-B891-45EF-B17C-7D792A4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EAA7E-514C-4F52-B7A3-E34FEF3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F7928-A308-44C2-B1DE-DCA42DC8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335E0-23F9-420B-BFEE-0B1BD60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65E68-3385-43AD-A427-D1A83FC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6FD11-19A0-4A57-8494-9DF0F36A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4AF-B1B1-4A61-9847-AFC1514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158D0-C162-4A2A-BADD-3C4C305E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2DF64-F121-4C27-8E17-7C5CF749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4955-60A6-4259-A3C2-A25BDEA4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9D6A-9B4A-4E09-AB5D-E3ED5E6E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6734-5B3E-4756-8629-410855CB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5BC0A-70C9-40E8-9070-5490F2C2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213B-9E81-43A2-8380-A6C10624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CABE2-5C19-44FA-BAEF-90CFF972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FC98F-8A83-41C7-982B-4E2EF05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B1D4-D037-4819-9AB7-B4D86E0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9EA-A7CB-4DD7-874A-ADDB8030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089D-52E0-4A11-B20B-C2FD999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B855A-A06A-4898-AFBC-4A162B12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9C7F-3AC0-4375-BE7E-8BCE0C40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DAC32-97D7-4F55-9557-52D6815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2A786-E5C3-4351-8C46-C1727CC0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2D82C-7B09-41CC-B975-341BBE02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88F25-84D5-4C8E-9856-9B573486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DF6BD-715A-4FB6-8A13-7A093D80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CD8DA-55B0-4363-9513-7DE99495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43AF1-C5A4-4E8C-97E4-8A9285D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9FC-CDC4-4F65-B674-40A4BBD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BEF0F-DD81-43A0-A816-B352F2F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A0EA0-EB61-4E63-8538-8AE2EB2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E6D41-4648-4EAE-AD02-D0A8062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BB052-CBEE-4986-AB0A-33C41727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DAF3F-2DBF-4CE0-B9F6-75D31872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A14FD-65F0-47E1-8839-6CC5F004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9A20B-D4F7-432F-9B5E-024940B9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2D7A-77AC-48B3-B6F0-8E2C8190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C5F0-B5BB-4ABA-B84A-9A17230A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BE2E-88EB-4F73-821F-21BDBA90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030-E570-41BD-BFC7-1DF0B69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F820-0D65-46CA-AD11-F1CAEA2F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9D00-1A4E-4AF1-8E43-E4F2450A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2212B-A744-4F81-A550-3636CCA6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9A4BE-3185-4F4B-A420-A65783D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71099-E14E-4851-97E5-314A9841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6BBA-388B-4D07-8274-5A24C873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1348-5C14-455C-A6C8-67A2A5D6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51B-DAE5-4853-9E77-D779AB6395A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0BE8-53E5-4AE5-9039-A46F2803923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5FB-E847-4F18-BECD-21DEE8F500C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0E4-9188-4B87-AB1A-E9ACA67E90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F6B0-7CC6-4D2F-9A6A-9F3BB8354F0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39C-B233-4574-BC39-A1F743DA7EF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CAE3-2DB5-4CCE-B1A1-FF8FD6288D0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B9C-3E52-49D0-A1B5-71BC31F222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he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What’s a teacher to Do?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2T20:13:08Z</dcterms:modified>
  <cp:revision>31</cp:revision>
  <dc:subject/>
  <dc:title>Inquiry/research process the information literacy solution</dc:title>
</cp:coreProperties>
</file>