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8731-C93E-4452-A2F0-6381882D7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608C-E13F-4CB4-A909-91E60F7E0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1F92-8E6D-416C-AAA6-DE04A3E4C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the graphic because the Big 6 isn’t really a cycle and it doesn’t have to be linear, so I chose not to use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E271-14B6-4B21-97EB-E841CA2F7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98CA-0724-430E-BD63-E51F97484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06AB-B4AF-49EF-9583-5BCA8A201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9CAD-2992-469F-A02B-5917D2BA7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BE8C-0ED7-4C19-93EC-580E8D8FC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734C-39EF-4169-9CA7-A02CCEFDF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199E-892F-4471-B105-20FE42BCF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8C25-2025-44F6-86DF-A19FAEA08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E2D1-01FA-483E-81D0-DC3D82EDE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CB5E-E6DD-40A6-82C7-548547636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B550-A1E0-459B-9367-2B5437E7E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3F12-7802-4ADA-83D1-0452C432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971C-18E7-40E7-86ED-0B8AE30E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B25-E152-4DAA-B644-C339CABE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BD2-7201-449F-BBE4-ED9943B4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4CD3-15F1-4DB4-845F-DCAB4263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EDC1-91FA-496D-A865-C00D2948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571A-0554-48A7-B610-04FF7911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C27A-8CBE-45D6-BC54-D119FE02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E139-CFCB-4D17-A4F3-C8267806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402F-F035-4D94-A27D-6F4239F1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758A-ED61-40F4-A6E1-EAB01F42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21E-F874-4691-BE07-F25B68D3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7CA0-8EF2-47E5-BB87-C2AEA944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C431-4479-413D-BFE1-F793241D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B55C-867A-4E67-8F1A-7D7E3AE0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69FB-D867-49B1-9A92-BCB2E60B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ABB0-CD1F-43B8-96E6-EBF2313F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3EB16-875F-49A9-A2A5-5D894DC4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66F1B-B700-44FD-92E9-BF77A37C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ED9F1-F988-416C-9C8D-05CA8A0C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61C40-D81F-4AAE-BB18-A4B68844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204C5-386C-43F4-A1B7-C08414F6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F20-328C-4AB4-A525-8EEF0A86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D0A77-C8D1-453F-95AD-278D106C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AA5E0-4200-4673-AF75-8C6FE160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515AB-68AC-4B7F-A96B-419C08CE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20128-B713-4B1D-A4BA-1F0BBDAB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6DB8A-64D3-4D14-A650-7B5C9108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02B2B-4A74-4876-9591-8ACE2904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B3CDE-E369-4B40-B8BF-EB7D6764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0667DA-231D-4555-979C-767CE174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6A57B6-9EB3-45B8-94A4-09CA4C0B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80D4F3-3798-41F2-9296-AD532CF3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1C8-F413-44BA-9B31-969478BF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D332E1-BEBE-4C2C-A1CA-32B71191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D4480-2411-421D-A968-93E7CF9D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1E9AC6-DE65-4BBC-9DCF-7A08C9E6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29CC0-D598-4E50-B3E9-2ACA8BE2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ACDCA6-7787-4043-95FA-E626D9EF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C806B3-0EF3-4987-9495-E364238F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ECE61D-B841-4D60-A124-5FA373B8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4C4F14-EF63-4CD9-9D86-E152D446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17AED4-4695-4BAC-96DF-3F226C8A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79BA9-B881-4570-A6DC-038F5357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42F-C78C-4CCE-8969-99834180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632259-19A0-4859-A4E5-29C8AD80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B8925D-9629-42F5-9D62-44B527D8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7683D-72F0-44C0-8C4D-BE7BDA33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28C21-404A-451D-9DB8-021E2B17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8FD023-C2A1-4640-838C-00AED2D1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7F961-C880-4EF1-9F14-8EE3BBC2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371F2-B315-4823-884C-715DE717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E471F0-0CDB-4728-8016-09924CAC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D7F15C-2E12-42A9-9438-C6DF8DDE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7EF8F2-F297-4EAF-B9B5-B7214F7F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635-AF8B-4E16-9857-78C972EC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A77548-E414-458B-9951-4485A8C5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5257B-43A3-4480-A080-077DD506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0F69E-2D80-416F-AE56-1325C7D3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10309-6778-4242-9224-C0D751CE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A2CAE-B79D-4B1F-8C43-16979051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DE4CB-0C53-44BD-9741-A95F41E2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F9F14-53F1-4B21-A96A-04173362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299C1-93F5-485B-A2AF-C9F92AFC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2C223-5D00-4C77-97F5-2CBFCA26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D16F4-908B-4B88-A7F0-D1C32A96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A18-5E18-47FB-BA14-6B2FDB72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B4C79-7B47-4EED-B860-11AAB2FA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FD786-17A8-4A3F-A0C3-DB6642B0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C6244-26F9-4733-9A1E-18723B12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14584B-BE8A-4B79-9C47-6D246B7B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2E2D89-EE3B-4EB9-A041-B80697D2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3345C2-9E45-44AF-BF67-2363D4BA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98DF82-2C30-47F5-8D67-A8C48E2C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59B3A1-4482-4FAA-8A30-F7464485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10D2DA-020C-4EFA-8435-AFFB4E81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1EA2B-EB9D-4D5E-BBE0-E811F76D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E286-E68E-4425-8DD7-E6E2F277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197F43-0398-4FDD-A669-C5AD989B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081AB8-7F81-4A31-B88A-CEAD23C9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9F12CC-400D-4444-B3ED-A5A5B426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C6DEB1-6549-4063-9291-CEC4726D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6432EF-0392-4A47-8F26-A4D7A820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3D18A-DEAF-42DE-96E8-03EA2644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C0E5D-5064-4CBE-82EC-F65D2E6C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EA151-8A1B-42D3-A187-C87EECC6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7387A-E2E2-4D1F-9E18-5BB124AD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6883D-A56A-415C-ADB9-6ECD1574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CA6-432E-4D85-81B8-40FEB930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23FEB-C126-4E25-9F8D-F38E0125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25E9E-D6FE-497E-8A3D-A5B9CA18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B3D85-50C1-4F54-8533-BE8E8D94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04A76-6CE8-4FF7-97A4-2D0BCA4F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BC264-2023-4F3D-A88F-73FB21E8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79A2D-43F8-489C-9296-48B20AB1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1BB3C-643B-4163-AC95-FD3F9A49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07F2-82FB-450C-946F-1AB0DCF397C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FFFE-8003-4234-86EC-9F5386E79C54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F473-F79D-4ABD-A039-FCA10FC3B46D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5A30-55A4-4C5D-8D33-C570C49113F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9D51-C43F-49B9-83E4-76827CE4639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95C7-E818-4463-8DAE-78830257BC53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3048-EC88-4D33-88B1-C06DA1518FB3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4BBC-8A04-4965-A535-041BD4BE0D4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g6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big6.com/2006/12/10/sing-a-song-of-research-turning-the-big6-into-a-tune/" TargetMode="Externa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YOUR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eaching Big 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880" y="1447920"/>
            <a:ext cx="8385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advantage to the Big6 is that there is a vast array of teaching support and staff development found at 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nclud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Big6 in all content areas such as Language Arts, Math, Music, Science, Social Studies, and Special Nee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 resources such as graphic organizers, note taking, activity pages, and mo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on workshops, grants for training, and webina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g 6 site for kids to help them understand the process furth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Pro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Content Placeholder 3" descr=""/>
          <p:cNvPicPr/>
          <p:nvPr/>
        </p:nvPicPr>
        <p:blipFill>
          <a:blip r:embed="rId1"/>
          <a:stretch/>
        </p:blipFill>
        <p:spPr>
          <a:xfrm>
            <a:off x="609480" y="1579680"/>
            <a:ext cx="8163000" cy="4535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Stoli.Stoli-PC\AppData\Local\Microsoft\Windows\Temporary Internet Files\Content.IE5\VTJZVI1Y\MCj04414980000[1].png"/>
          <p:cNvPicPr/>
          <p:nvPr/>
        </p:nvPicPr>
        <p:blipFill>
          <a:blip r:embed="rId2"/>
          <a:stretch/>
        </p:blipFill>
        <p:spPr>
          <a:xfrm>
            <a:off x="1749600" y="151776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C:\Users\Stoli.Stoli-PC\AppData\Local\Microsoft\Windows\Temporary Internet Files\Content.IE5\VTJZVI1Y\MCj04421290000[1].png"/>
          <p:cNvPicPr/>
          <p:nvPr/>
        </p:nvPicPr>
        <p:blipFill>
          <a:blip r:embed="rId3"/>
          <a:stretch/>
        </p:blipFill>
        <p:spPr>
          <a:xfrm>
            <a:off x="1749600" y="3882960"/>
            <a:ext cx="774360" cy="768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C:\Users\Stoli.Stoli-PC\AppData\Local\Microsoft\Windows\Temporary Internet Files\Content.IE5\VTJZVI1Y\MMAG00146_0000[1].gif"/>
          <p:cNvPicPr/>
          <p:nvPr/>
        </p:nvPicPr>
        <p:blipFill>
          <a:blip r:embed="rId4"/>
          <a:stretch/>
        </p:blipFill>
        <p:spPr>
          <a:xfrm>
            <a:off x="1822320" y="3121200"/>
            <a:ext cx="701640" cy="695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C:\Users\Stoli.Stoli-PC\AppData\Local\Microsoft\Windows\Temporary Internet Files\Content.IE5\FK67HN5B\MCj04415020000[1].png"/>
          <p:cNvPicPr/>
          <p:nvPr/>
        </p:nvPicPr>
        <p:blipFill>
          <a:blip r:embed="rId5"/>
          <a:stretch/>
        </p:blipFill>
        <p:spPr>
          <a:xfrm>
            <a:off x="1749600" y="227952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:\Users\Stoli.Stoli-PC\Pictures\Microsoft Clip Organizer\j0441510.png"/>
          <p:cNvPicPr/>
          <p:nvPr/>
        </p:nvPicPr>
        <p:blipFill>
          <a:blip r:embed="rId6"/>
          <a:stretch/>
        </p:blipFill>
        <p:spPr>
          <a:xfrm>
            <a:off x="1749600" y="5407200"/>
            <a:ext cx="774360" cy="774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:\Users\Stoli.Stoli-PC\Pictures\Microsoft Clip Organizer\j0442134.png"/>
          <p:cNvPicPr/>
          <p:nvPr/>
        </p:nvPicPr>
        <p:blipFill>
          <a:blip r:embed="rId7"/>
          <a:stretch/>
        </p:blipFill>
        <p:spPr>
          <a:xfrm>
            <a:off x="1749600" y="4645080"/>
            <a:ext cx="780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1: Task 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fine the Information Problem (What is the task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dentify the Information Needed (What types of information do I ne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ask Defini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y teacher assigned a project on a famous Texan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s the task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hoose a famous Texan from my teacher’s list to report on: Lady Bird Johns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do I ne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sic information: birthday, family, care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y she’s important to the state of Texas/her accomplish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2: </a:t>
            </a: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termine all possible sources (What are the possible sources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elect the best sources (Which sources are the best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1461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 Example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are the possible sources to find information on Lady Bird Johns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arch on Google for information, Use an online database (Encyclopedia Britannica, net Trekker), Encyclopedia, Books on Texas or Lady Bird hersel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ich sources are the best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Google brings up way too much information and I can get the same information on the online encyclopedia as the book for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tart with books about her and then use the internet databases to find mor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0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3: Location and Ac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ocate sources (Where is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Find information within sources (Where is the information within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302680" y="225360"/>
            <a:ext cx="6951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ocation and Acces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chool library has 3 books on Lady Bird Johns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an access the online databases from my classroom or at ho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the information within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books are all about her, so I’ll use the index and table of contents to find the information I ne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earch each database for her name and then click on the articles that are relevant. Then, I’ll need to skim and read them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150400" y="298440"/>
            <a:ext cx="6951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 Use of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ngage (e.g. read, hear, view, touch) (How can I best use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xtract relevant information (What information in each source is useful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9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 of Inform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5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best use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use the table of contents of the books to find the most important information first. Then, I’ll read the shorter books completely to get more inform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read the articles found through the databases. I might have to skim first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in each source is useful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found the basic information in the books, but one of them was just about her accomplishments as first lady of Texas and the wildflower project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me database articles were more of the same and some were more in depth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2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Information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…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ng children tackle tasks, make decisions, and solve problems on an academic and personal level every day” (Robinson10).  As they do so, they are constantly being bombarded with information from a variety of sources. If we expect them to be successful in school and become productive members of society, we need to teach them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information literacy skill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help them be effective life-long learn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C:\Users\Mandy\AppData\Local\Microsoft\Windows\Temporary Internet Files\Content.IE5\I33D4CIP\MCj02997510000[1].wmf"/>
          <p:cNvPicPr/>
          <p:nvPr/>
        </p:nvPicPr>
        <p:blipFill>
          <a:blip r:embed="rId1"/>
          <a:stretch/>
        </p:blipFill>
        <p:spPr>
          <a:xfrm>
            <a:off x="6858000" y="4924440"/>
            <a:ext cx="2057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Synthe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Organize from multiple sources (How can I organize my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Present the Information (How can I present the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ynthesi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organize my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typing up my notes on a word document, organized into categories: basic information, the wildflower project, here career, first lady experie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present the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going to make a timeline of her life on a poster board and a time capsule in a shoe box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duct-effectiveness (Is the task completed/Did I do what was requir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cess-efficiency (How can I do things better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valu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id I complete the task and do what was requir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ompleted the project on time included important information without giving every detail of her lif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do things better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think I did a pretty good job. Typing on a word document and going back and forth between windows was a bit slow for me. Maybe next time I can organize my notes on index card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4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Ma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as a problem solving strateg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Language Art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research for presentations or solve characters’ problem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cience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The Big 6 as a guide in experim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ocial Studi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find a proposed solution to a cultural or social problem, as well as to gather information on historical event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teacher, you have many information gathering models to choose from. Although the Big6 may not be completely different than other models, the advantages a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ear language that students can underst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y to follow ste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mount of support available on the Big6 website and all over the internet to assist in integrating it into your curriculu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75f55"/>
                </a:solidFill>
                <a:latin typeface="Tw Cen MT"/>
              </a:rPr>
              <a:t>Just For Fun</a:t>
            </a:r>
            <a:endParaRPr b="0" lang="en-US" sz="8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s, engage your students before you begin with the Big 6 song!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/2006/12/10/sing-a-song-of-research-turning-the-big6-into-a-tun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1" name="Picture 2" descr="C:\Users\Mandy\AppData\Local\Microsoft\Windows\Temporary Internet Files\Content.IE5\I33D4CIP\MCj02327280000[1].wmf"/>
          <p:cNvPicPr/>
          <p:nvPr/>
        </p:nvPicPr>
        <p:blipFill>
          <a:blip r:embed="rId2"/>
          <a:stretch/>
        </p:blipFill>
        <p:spPr>
          <a:xfrm>
            <a:off x="3733920" y="3276720"/>
            <a:ext cx="162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Nuts and Bolts of Big6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AT&amp;T Knowledge Network Explorer Homepag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kn.pacbell.com/wired/big6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erkowitz, Robert E. and Mike Eisenberg.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The Big6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Big 6, 2009. Web. 18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big6.com&gt;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 Six Steps- CRLS Research Guid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Basic Steps to Creating a Research Project- CRLS Research Guid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eb. 19 Oct. 2009. &lt;http://www.crlsresearchguide.org/Big_Six_Steps.asp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6 Super3 templat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Instructional Technology Media Center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205.213.162.11/project_big6/super3/super3.htm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Eisenberg, Michael. "It's All About Learning: Ensuring That Students Are Effective Users of Information on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tandardized Tests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y Management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6th ed. Columbus: Linworth Books, 2007. Print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Hughes, Sandra. “The Big6 as a Strategy for Student Research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ies in Canada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2.4 (2003):28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obinson, Laura Eisenberg. “Early Learners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Library Media Connection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7.2 (2008): 10-11. 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ll images courtesy of Microsoft Clip-Ar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Information Literacy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stated in the Information Literacy Competency Standards for Higher Education, “Information literacy is a set of abilities requiring individuals to ‘recognize when information is needed and have the ability to locate, evaluate, and use effectively the needed information”(Robinson 10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ormation literacy instruction needs to begin with our youngest learners…” (Robinson 10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What’s a teacher to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at method should YOU choos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8" descr="C:\Users\Mandy\AppData\Local\Microsoft\Windows\Temporary Internet Files\Content.IE5\I33D4CIP\MCj04114940000[1].wmf"/>
          <p:cNvPicPr/>
          <p:nvPr/>
        </p:nvPicPr>
        <p:blipFill>
          <a:blip r:embed="rId2"/>
          <a:stretch/>
        </p:blipFill>
        <p:spPr>
          <a:xfrm>
            <a:off x="2819520" y="914400"/>
            <a:ext cx="4398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Never Fear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w Cen MT"/>
              </a:rPr>
              <a:t>BIG 6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IS HERE!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5" descr="C:\Users\Stoli.Stoli-PC\AppData\Local\Microsoft\Windows\Temporary Internet Files\Content.IE5\8MJD2KME\MCj04418880000[1].wmf"/>
          <p:cNvPicPr/>
          <p:nvPr/>
        </p:nvPicPr>
        <p:blipFill>
          <a:blip r:embed="rId1"/>
          <a:stretch/>
        </p:blipFill>
        <p:spPr>
          <a:xfrm>
            <a:off x="3657600" y="4724280"/>
            <a:ext cx="226368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1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1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problem-solving process that can be used in all areas of lif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hy Should I Use Big 6?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” (Nuts and Bolts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” (Hughes 28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; Students will consider if their current style and approach works well for problem sol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Stoli</cp:lastModifiedBy>
  <dcterms:modified xsi:type="dcterms:W3CDTF">2009-10-24T01:23:51Z</dcterms:modified>
  <cp:revision>99</cp:revision>
  <dc:subject/>
  <dc:title>Inquiry/research process the information literacy solution</dc:title>
</cp:coreProperties>
</file>