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78CF-D02B-4285-A3A8-8BAC2CFE5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F69B-DCEF-4AF3-A47B-CA2770B05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6C69-75DF-4C10-9B43-622FC1A03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hanged the graphic because the Big 6 isn’t really a cycle and it doesn’t have to be linear, so I chose not to use arrow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EBD5-4796-41CC-825C-42A6DD8D3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4BBA-28C1-460A-A793-8B6A3ADF2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8F93-F826-4A01-91F3-FEA2710E9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176A-C79B-4D6F-8BEC-CCC1B1AF5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2AD8-A10D-423D-8A9E-B30689125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0BB2-4015-4414-886A-161D909A4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9AC2-86C6-4AB9-93CF-5CE3F438E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1BC1-476B-43B0-BFFA-E7ED7DA6D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2A3D-920D-44E1-9266-D24AD3440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5EEB-5E01-4F21-9BC8-2C15C53DF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8A4F-F6C7-4B0A-959C-B0A61091D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BAC3-1826-4CDF-8476-4684DA08C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AA91-E3F5-469F-A280-DFA6D79E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487A-4D30-4B1E-A7B9-9891F6ED2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41C5-3C45-47DF-9BCA-C00262A3E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18B4-A063-4B68-B0E6-CCF1C70FE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6C64-3A44-46DB-98F6-6676BDCD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CD43-C15B-4245-99AB-E3812F4B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745C-536F-4357-BC53-BA950C35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721F-135D-4604-B461-886A275F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B7B4-C6D5-40DE-AD5A-A6F9A326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273E-1C23-4257-9A2D-9EC0317F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3350-F5E4-4D6D-A639-0D9A6437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13FD-B860-42E0-9372-9D15D502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28459-5BC9-47C1-9A50-2B7D5383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C4A4-AE36-4425-96DE-E96BB59F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65C9-2920-4B9B-9292-0D651A1FE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4067C-A308-468C-9A6B-D8DC52111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E2F968-5FFE-4C48-9427-89F1912CB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842DAB-C1A4-4675-A280-F07C2D40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0EB58B-F1ED-44E0-B462-ED49E19B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794FBA-D12A-4E7F-9663-1CC0FB58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414B17-5F83-45A3-A385-8C7ECADC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1808-B503-4648-8C8E-D749D422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96A9A7-3043-47D9-815B-9138A072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A60888-B005-4DB6-AAB4-0BFCF121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3A42BA-CBC5-4267-AEA9-0E49C981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F46762-00D1-4B0E-A9C0-4C2D6644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BC6BA6-520E-4C1E-B0A7-51ACA435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0BD0C5-4F98-4215-B036-0A0BAF99A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C3EA45-3752-4F69-96EF-9467A15F2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5C137D-C888-4EBA-A3C7-55147830B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0B247A-DA3C-4A78-8A97-AEDCCE19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D6442E-1B7E-4A34-B0B1-E5C0DB10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F584-50B7-4F61-82BC-569F94D8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6D3202-5A87-49E9-94E0-66490563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2AAFFB-79AE-4528-95D6-1F463529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41AD9F-4472-4485-9B8C-0BE7AA9E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C293CD-B8A4-4124-94CE-9BA50621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20AB93-2AFA-4804-A9D7-6FD57D15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428BA8-1F55-4C94-B4B8-836F6E77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7ECDD4-0F7A-425E-A248-5F8830EA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508BCE-0A05-4BB5-91FC-6096BB30A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A7463F-0497-4A43-A0BC-28EFF2E4C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114494-DF2A-4502-82DD-CC65EE650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D19F-6A33-4D98-BFD1-53634C8F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7CC358-33B7-441C-842C-44EB5496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A4127D-6E8E-469B-B3D5-16900EA0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F0FB2A-4166-4162-B80F-56B044C5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83AE23-5F4B-4011-B7FF-3C3342C9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B0F539-BE8C-429D-9B8F-A7DD917A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1D40D2-A591-4A12-94FF-AB088B04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2AF105-76F4-481B-AF1A-294E0A39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F0E0FA-9100-4871-BA6C-52EC0557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04F525-82C8-4E01-92B9-FCA5F39A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A6E6EF-D5C6-4DB6-AF1E-8BD2D5F7F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4CBB-E6C3-42F2-AAB0-05DC925A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B0F745-BA17-46D2-A9C9-BDFE2808C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CB467-C2A8-459B-AB66-E8ED3914B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CED36-C1E6-4CD0-8A84-52A8FF90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AB435-1F5A-47CC-8204-EB404B1C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58DD9-5072-4F64-A864-3BA1F802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559EF-6C3F-407F-91A6-38BDADC3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DDF41-8794-41A5-B1A5-78EED86F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47CE6-8579-42BF-BFC7-28B860E4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D6508-F247-4B74-BDD8-538BDBDE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C21CC-D5E6-421A-B16E-F16FCF42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7740-5BF8-4521-A512-6BF3229F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75CE0-E5A8-4B1C-9350-ECBA0A98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8875B-8F19-4BC9-A871-011E58C23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2C3BB-F16E-4BE2-A2E5-F94986DF2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26C8DB-1229-4219-A8DD-EB300B1E6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CC5159-50EC-44F0-8C61-E8F61883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3FE153-E768-4F3B-84AA-77041D25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173068-6579-4D70-B17E-EF8F8DC9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9BFFE5-21B1-41DA-ABA7-06284FF6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123E6F-D3C9-4D12-82F0-E5110625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AEB518-F5E9-41D8-8629-FDBC3964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6925-6217-42BA-85C0-010C42BA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987FBD-4DCA-4532-9C49-397EEFF5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B8C19D-6603-443E-BFCB-BD34C37F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0AF9ED-EBFA-41A6-8ADF-F15D244B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0C8746-D91B-4FE9-A09D-CD100DAE6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10A110-6358-4C5B-96C3-D62FE72CE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9A291-E2E7-4D31-A7AC-2C56EB523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87626-4035-4BEE-BC97-C209638C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D0598-21F3-467E-B220-32195650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EEC42-C69C-47EE-BF5F-AF1DF47D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225D1-95D3-41D7-AD93-D83F8524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8789-5AC5-4BA8-91D2-F8C6B8C8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72BCD-C0DF-4727-BC80-F31513B7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D9AC4-59F5-45DE-BAB5-CF8DAAF0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7FEC4-501E-4FE3-9432-67F28568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A48A4-9D0F-495A-8699-B3C312FC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B3422-9584-4E96-9C27-16B20904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3DF9D-E532-415F-9847-16E004023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7432D-F517-4947-B7C6-A69701C09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DD4D-741B-4AB5-812D-672262E5C00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8C13-AB6C-42DE-81C3-E791F6344002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D36E-DA2D-46D1-8F88-93F6121A9E1C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3EB4-6851-4085-B812-B8D34B54DFE0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0673-D35B-45C2-AF5A-E9719E2285B6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90BE-C730-46F6-BBB8-52E28C871C5C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590D-A572-4AA7-844C-8C94CF77FBAE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794A-724D-4CD0-83DC-A3C51AAADD8D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ig6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big6.com/2006/12/10/sing-a-song-of-research-turning-the-big6-into-a-tune/" TargetMode="External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94920" y="266688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bddc3"/>
                </a:solidFill>
                <a:latin typeface="Tw Cen MT"/>
              </a:rPr>
              <a:t>BIG 6:</a:t>
            </a:r>
            <a:br>
              <a:rPr sz="9600"/>
            </a:br>
            <a:r>
              <a:rPr b="0" lang="en-US" sz="2800" spc="-1" strike="noStrike">
                <a:solidFill>
                  <a:srgbClr val="ebddc3"/>
                </a:solidFill>
                <a:latin typeface="Tw Cen MT"/>
              </a:rPr>
              <a:t>YOUR INFORMATION LITERACY SOLUTION</a:t>
            </a:r>
            <a:endParaRPr b="0" lang="en-US" sz="28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Mandy Dempsey and Kathryn Stephenson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upport for teaching Big 6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80880" y="1447920"/>
            <a:ext cx="8385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n advantage to the Big6 is that there is a vast array of teaching support and staff development found at 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big6.com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including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sing Big6 in all content areas such as Language Arts, Math, Music, Science, Social Studies, and Special Need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ree resources such as graphic organizers, note taking, activity pages, and mor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formation on workshops, grants for training, and webinar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ig 6 site for kids to help them understand the process furth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Big 6 Proces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2" name="Content Placeholder 3" descr=""/>
          <p:cNvPicPr/>
          <p:nvPr/>
        </p:nvPicPr>
        <p:blipFill>
          <a:blip r:embed="rId1"/>
          <a:stretch/>
        </p:blipFill>
        <p:spPr>
          <a:xfrm>
            <a:off x="609480" y="1579680"/>
            <a:ext cx="8163000" cy="45352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C:\Users\Stoli.Stoli-PC\AppData\Local\Microsoft\Windows\Temporary Internet Files\Content.IE5\VTJZVI1Y\MCj04414980000[1].png"/>
          <p:cNvPicPr/>
          <p:nvPr/>
        </p:nvPicPr>
        <p:blipFill>
          <a:blip r:embed="rId2"/>
          <a:stretch/>
        </p:blipFill>
        <p:spPr>
          <a:xfrm>
            <a:off x="1749600" y="1517760"/>
            <a:ext cx="774360" cy="7747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5" descr="C:\Users\Stoli.Stoli-PC\AppData\Local\Microsoft\Windows\Temporary Internet Files\Content.IE5\VTJZVI1Y\MCj04421290000[1].png"/>
          <p:cNvPicPr/>
          <p:nvPr/>
        </p:nvPicPr>
        <p:blipFill>
          <a:blip r:embed="rId3"/>
          <a:stretch/>
        </p:blipFill>
        <p:spPr>
          <a:xfrm>
            <a:off x="1749600" y="3882960"/>
            <a:ext cx="774360" cy="7682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6" descr="C:\Users\Stoli.Stoli-PC\AppData\Local\Microsoft\Windows\Temporary Internet Files\Content.IE5\VTJZVI1Y\MMAG00146_0000[1].gif"/>
          <p:cNvPicPr/>
          <p:nvPr/>
        </p:nvPicPr>
        <p:blipFill>
          <a:blip r:embed="rId4"/>
          <a:stretch/>
        </p:blipFill>
        <p:spPr>
          <a:xfrm>
            <a:off x="1822320" y="3121200"/>
            <a:ext cx="701640" cy="6951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C:\Users\Stoli.Stoli-PC\AppData\Local\Microsoft\Windows\Temporary Internet Files\Content.IE5\FK67HN5B\MCj04415020000[1].png"/>
          <p:cNvPicPr/>
          <p:nvPr/>
        </p:nvPicPr>
        <p:blipFill>
          <a:blip r:embed="rId5"/>
          <a:stretch/>
        </p:blipFill>
        <p:spPr>
          <a:xfrm>
            <a:off x="1749600" y="2279520"/>
            <a:ext cx="774360" cy="7747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" descr="C:\Users\Stoli.Stoli-PC\Pictures\Microsoft Clip Organizer\j0441510.png"/>
          <p:cNvPicPr/>
          <p:nvPr/>
        </p:nvPicPr>
        <p:blipFill>
          <a:blip r:embed="rId6"/>
          <a:stretch/>
        </p:blipFill>
        <p:spPr>
          <a:xfrm>
            <a:off x="1749600" y="5407200"/>
            <a:ext cx="774360" cy="7743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9" descr="C:\Users\Stoli.Stoli-PC\Pictures\Microsoft Clip Organizer\j0442134.png"/>
          <p:cNvPicPr/>
          <p:nvPr/>
        </p:nvPicPr>
        <p:blipFill>
          <a:blip r:embed="rId7"/>
          <a:stretch/>
        </p:blipFill>
        <p:spPr>
          <a:xfrm>
            <a:off x="1749600" y="4645080"/>
            <a:ext cx="78084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1: Task Defini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Define the Information Problem (What is the task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Identify the Information Needed (What types of information do I need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1" name="Picture 4" descr="C:\Users\Stoli.Stoli-PC\AppData\Local\Microsoft\Windows\Temporary Internet Files\Content.IE5\VTJZVI1Y\MCj04414980000[1].png"/>
          <p:cNvPicPr/>
          <p:nvPr/>
        </p:nvPicPr>
        <p:blipFill>
          <a:blip r:embed="rId1"/>
          <a:stretch/>
        </p:blipFill>
        <p:spPr>
          <a:xfrm>
            <a:off x="8070840" y="22536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ask Definition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My teacher assigned a project on a famous Texan.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 is the task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hoose a famous Texan from my teacher’s list to report on: Lady Bird Johnso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 information do I need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asic information: birthday, family, care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Why she’s important to the state of Texas/her accomplishmen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4" name="Picture 4" descr="C:\Users\Stoli.Stoli-PC\AppData\Local\Microsoft\Windows\Temporary Internet Files\Content.IE5\VTJZVI1Y\MCj04414980000[1].png"/>
          <p:cNvPicPr/>
          <p:nvPr/>
        </p:nvPicPr>
        <p:blipFill>
          <a:blip r:embed="rId1"/>
          <a:stretch/>
        </p:blipFill>
        <p:spPr>
          <a:xfrm>
            <a:off x="8070840" y="22536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2: </a:t>
            </a:r>
            <a:r>
              <a:rPr b="0" lang="en-US" sz="3800" spc="-1" strike="noStrike">
                <a:solidFill>
                  <a:srgbClr val="775f55"/>
                </a:solidFill>
                <a:latin typeface="Tw Cen MT"/>
              </a:rPr>
              <a:t>Information Seeking Strategies</a:t>
            </a:r>
            <a:endParaRPr b="0" lang="en-US" sz="3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Determine all possible sources (What are the possible sources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Select the best sources (Which sources are the best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7" name="Picture 7" descr="C:\Users\Stoli.Stoli-PC\AppData\Local\Microsoft\Windows\Temporary Internet Files\Content.IE5\FK67HN5B\MCj04415020000[1].png"/>
          <p:cNvPicPr/>
          <p:nvPr/>
        </p:nvPicPr>
        <p:blipFill>
          <a:blip r:embed="rId1"/>
          <a:stretch/>
        </p:blipFill>
        <p:spPr>
          <a:xfrm>
            <a:off x="8375760" y="14616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8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775f55"/>
                </a:solidFill>
                <a:latin typeface="Tw Cen MT"/>
              </a:rPr>
              <a:t>Information Seeking Strategies Example</a:t>
            </a:r>
            <a:endParaRPr b="0" lang="en-US" sz="3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1272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 are the possible sources to find information on Lady Bird Johnson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arch on Google for information, Use an online database (Encyclopedia Britannica, net Trekker), Encyclopedia, Books on Texas or Lady Bird herself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ich sources are the best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sing Google brings up way too much information and I can get the same information on the online encyclopedia as the book form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’ll start with books about her and then use the internet databases to find more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0" name="Picture 7" descr="C:\Users\Stoli.Stoli-PC\AppData\Local\Microsoft\Windows\Temporary Internet Files\Content.IE5\FK67HN5B\MCj04415020000[1].png"/>
          <p:cNvPicPr/>
          <p:nvPr/>
        </p:nvPicPr>
        <p:blipFill>
          <a:blip r:embed="rId1"/>
          <a:stretch/>
        </p:blipFill>
        <p:spPr>
          <a:xfrm>
            <a:off x="8375760" y="29844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3: Location and Acces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Locate sources (Where is each source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Find information within sources (Where is the information within each source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3" name="Picture 6" descr="C:\Users\Stoli.Stoli-PC\AppData\Local\Microsoft\Windows\Temporary Internet Files\Content.IE5\VTJZVI1Y\MMAG00146_0000[1].gif"/>
          <p:cNvPicPr/>
          <p:nvPr/>
        </p:nvPicPr>
        <p:blipFill>
          <a:blip r:embed="rId1"/>
          <a:stretch/>
        </p:blipFill>
        <p:spPr>
          <a:xfrm>
            <a:off x="8302680" y="225360"/>
            <a:ext cx="69516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Location and Access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6002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71080" indent="-271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ere is each source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school library has 3 books on Lady Bird Johns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can access the online databases from my classroom or at hom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ere is the information within each source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books are all about her, so I’ll use the index and table of contents to find the information I need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’ll search each database for her name and then click on the articles that are relevant. Then, I’ll need to skim and read them to find what I need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6" name="Picture 6" descr="C:\Users\Stoli.Stoli-PC\AppData\Local\Microsoft\Windows\Temporary Internet Files\Content.IE5\VTJZVI1Y\MMAG00146_0000[1].gif"/>
          <p:cNvPicPr/>
          <p:nvPr/>
        </p:nvPicPr>
        <p:blipFill>
          <a:blip r:embed="rId1"/>
          <a:stretch/>
        </p:blipFill>
        <p:spPr>
          <a:xfrm>
            <a:off x="8150400" y="298440"/>
            <a:ext cx="69516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4: Use of Inform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Engage (e.g. read, hear, view, touch) (How can I best use each source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Extract relevant information (What information in each source is useful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9" name="Picture 5" descr="C:\Users\Stoli.Stoli-PC\AppData\Local\Microsoft\Windows\Temporary Internet Files\Content.IE5\VTJZVI1Y\MCj04421290000[1].png"/>
          <p:cNvPicPr/>
          <p:nvPr/>
        </p:nvPicPr>
        <p:blipFill>
          <a:blip r:embed="rId1"/>
          <a:stretch/>
        </p:blipFill>
        <p:spPr>
          <a:xfrm>
            <a:off x="8070840" y="298440"/>
            <a:ext cx="77472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Use of Information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805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58120" indent="-2581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ow can I best use each source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will use the table of contents of the books to find the most important information first. Then, I’ll read the shorter books completely to get more informatio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will read the articles found through the databases. I might have to skim first to find what I need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58120" indent="-2581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 information in each source is useful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found the basic information in the books, but one of them was just about her accomplishments as first lady of Texas and the wildflower project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ome database articles were more of the same and some were more in depth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58120" indent="-2581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2" name="Picture 5" descr="C:\Users\Stoli.Stoli-PC\AppData\Local\Microsoft\Windows\Temporary Internet Files\Content.IE5\VTJZVI1Y\MCj04421290000[1].png"/>
          <p:cNvPicPr/>
          <p:nvPr/>
        </p:nvPicPr>
        <p:blipFill>
          <a:blip r:embed="rId1"/>
          <a:stretch/>
        </p:blipFill>
        <p:spPr>
          <a:xfrm>
            <a:off x="8070840" y="298440"/>
            <a:ext cx="77472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Information Proble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086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26440" indent="-22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“…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Young children tackle tasks, make decisions, and solve problems on an academic and personal level every day” (Robinson10).  As they do so, they are constantly being bombarded with information from a variety of sources. If we expect them to be successful in school and become productive members of society, we need to teach them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information literacy skills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o help them be effective life-long learners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1" name="Picture 4" descr="C:\Users\Mandy\AppData\Local\Microsoft\Windows\Temporary Internet Files\Content.IE5\I33D4CIP\MCj02997510000[1].wmf"/>
          <p:cNvPicPr/>
          <p:nvPr/>
        </p:nvPicPr>
        <p:blipFill>
          <a:blip r:embed="rId1"/>
          <a:stretch/>
        </p:blipFill>
        <p:spPr>
          <a:xfrm>
            <a:off x="6858000" y="4924440"/>
            <a:ext cx="20574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5: Synthes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Organize from multiple sources (How can I organize my information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Present the Information (How can I present the information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5" name="Picture 9" descr="C:\Users\Stoli.Stoli-PC\Pictures\Microsoft Clip Organizer\j0442134.png"/>
          <p:cNvPicPr/>
          <p:nvPr/>
        </p:nvPicPr>
        <p:blipFill>
          <a:blip r:embed="rId1"/>
          <a:stretch/>
        </p:blipFill>
        <p:spPr>
          <a:xfrm>
            <a:off x="7997760" y="225360"/>
            <a:ext cx="7812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ynthesis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5335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ow can I organize my information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’m typing up my notes on a word document, organized into categories: basic information, the wildflower project, here career, first lady experienc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ow can I present the information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’m going to make a timeline of her life on a poster board and a time capsule in a shoe box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8" name="Picture 9" descr="C:\Users\Stoli.Stoli-PC\Pictures\Microsoft Clip Organizer\j0442134.png"/>
          <p:cNvPicPr/>
          <p:nvPr/>
        </p:nvPicPr>
        <p:blipFill>
          <a:blip r:embed="rId1"/>
          <a:stretch/>
        </p:blipFill>
        <p:spPr>
          <a:xfrm>
            <a:off x="7997760" y="225360"/>
            <a:ext cx="7812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6: Evalu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Judge the product-effectiveness (Is the task completed/Did I do what was required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Judge the process-efficiency (How can I do things better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1" name="Picture 8" descr="C:\Users\Stoli.Stoli-PC\Pictures\Microsoft Clip Organizer\j0441510.png"/>
          <p:cNvPicPr/>
          <p:nvPr/>
        </p:nvPicPr>
        <p:blipFill>
          <a:blip r:embed="rId1"/>
          <a:stretch/>
        </p:blipFill>
        <p:spPr>
          <a:xfrm>
            <a:off x="8070840" y="29844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valuation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Did I complete the task and do what was required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completed the project on time included important information without giving every detail of her life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ow can I do things better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think I did a pretty good job. Typing on a word document and going back and forth between windows was a bit slow for me. Maybe next time I can organize my notes on index cards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4" name="Picture 8" descr="C:\Users\Stoli.Stoli-PC\Pictures\Microsoft Clip Organizer\j0441510.png"/>
          <p:cNvPicPr/>
          <p:nvPr/>
        </p:nvPicPr>
        <p:blipFill>
          <a:blip r:embed="rId1"/>
          <a:stretch/>
        </p:blipFill>
        <p:spPr>
          <a:xfrm>
            <a:off x="8070840" y="29844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ntegration into Curriculu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Math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 use The Big 6 as a problem solving strateg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Language Art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 Use The Big 6 to research for presentations or solve characters’ problem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Science: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 The Big 6 as a guide in experiment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Social Studie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 Use The Big 6 to find a proposed solution to a cultural or social problem, as well as to gather information on historical events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clus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s a teacher, you have many information gathering models to choose from. Although the Big6 may not be completely different than other models, the advantages ar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ear language that students can understand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asy to follow step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amount of support available on the Big6 website and all over the internet to assist in integrating it into your curriculu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775f55"/>
                </a:solidFill>
                <a:latin typeface="Tw Cen MT"/>
              </a:rPr>
              <a:t>Just For Fun</a:t>
            </a:r>
            <a:endParaRPr b="0" lang="en-US" sz="8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612720" y="1599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eachers, engage your students before you begin with the Big 6 song!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big6.com/2006/12/10/sing-a-song-of-research-turning-the-big6-into-a-tune/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1" name="Picture 2" descr="C:\Users\Mandy\AppData\Local\Microsoft\Windows\Temporary Internet Files\Content.IE5\I33D4CIP\MCj02327280000[1].wmf"/>
          <p:cNvPicPr/>
          <p:nvPr/>
        </p:nvPicPr>
        <p:blipFill>
          <a:blip r:embed="rId2"/>
          <a:stretch/>
        </p:blipFill>
        <p:spPr>
          <a:xfrm>
            <a:off x="3733920" y="3276720"/>
            <a:ext cx="16207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orks Cite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"Nuts and Bolts of Big6."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AT&amp;T Knowledge Network Explorer Homepage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Web. 19 Oct. 2009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&lt;http://www.kn.pacbell.com/wired/big6&gt;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Berkowitz, Robert E. and Mike Eisenberg.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The Big6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Big 6, 2009. Web. 18 Oct. 2009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&lt;http://www.big6.com&gt;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"Big Six Steps- CRLS Research Guide."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Basic Steps to Creating a Research Project- CRLS Research Guide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Web. 19 Oct. 2009. &lt;http://www.crlsresearchguide.org/Big_Six_Steps.asp&gt;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"Big6 Super3 template."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Instructional Technology Media Center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Web. 19 Oct. 2009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&lt;http://205.213.162.11/project_big6/super3/super3.htm&gt;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Eisenberg, Michael. "It's All About Learning: Ensuring That Students Are Effective Users of Information on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tandardized Tests."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School Library Management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6th ed. Columbus: Linworth Books, 2007. Print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Hughes, Sandra. “The Big6 as a Strategy for Student Research.”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School Libraries in Canada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22.4 (2003):28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Journal Article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Robinson, Laura Eisenberg. “Early Learners.”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Library Media Connection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27.2 (2008): 10-11. Journal Article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All images courtesy of Microsoft Clip-Art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is Information Literacy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s stated in the Information Literacy Competency Standards for Higher Education, “Information literacy is a set of abilities requiring individuals to ‘recognize when information is needed and have the ability to locate, evaluate, and use effectively the needed information”(Robinson 10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formation literacy instruction needs to begin with our youngest learners…” (Robinson 10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What’s a teacher to do?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1560240" y="-360"/>
            <a:ext cx="7583400" cy="456876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What method should YOU choose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7" name="Picture 8" descr="C:\Users\Mandy\AppData\Local\Microsoft\Windows\Temporary Internet Files\Content.IE5\I33D4CIP\MCj04114940000[1].wmf"/>
          <p:cNvPicPr/>
          <p:nvPr/>
        </p:nvPicPr>
        <p:blipFill>
          <a:blip r:embed="rId2"/>
          <a:stretch/>
        </p:blipFill>
        <p:spPr>
          <a:xfrm>
            <a:off x="2819520" y="914400"/>
            <a:ext cx="439884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5f55"/>
                </a:solidFill>
                <a:latin typeface="Tw Cen MT"/>
              </a:rPr>
              <a:t>Never Fear</a:t>
            </a: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w Cen MT"/>
              </a:rPr>
              <a:t>BIG 6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w Cen MT"/>
              </a:rPr>
              <a:t>IS HERE!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0" name="Picture 5" descr="C:\Users\Stoli.Stoli-PC\AppData\Local\Microsoft\Windows\Temporary Internet Files\Content.IE5\8MJD2KME\MCj04418880000[1].wmf"/>
          <p:cNvPicPr/>
          <p:nvPr/>
        </p:nvPicPr>
        <p:blipFill>
          <a:blip r:embed="rId1"/>
          <a:stretch/>
        </p:blipFill>
        <p:spPr>
          <a:xfrm>
            <a:off x="3657600" y="4724280"/>
            <a:ext cx="226368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830f4"/>
                                      </p:to>
                                    </p:animClr>
                                    <p:animClr clrSpc="rgb">
                                      <p:cBhvr>
                                        <p:cTn id="7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830f4"/>
                                      </p:to>
                                    </p:animClr>
                                    <p:set>
                                      <p:cBhvr>
                                        <p:cTn id="8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830f4"/>
                                      </p:to>
                                    </p:animClr>
                                    <p:animClr clrSpc="rgb">
                                      <p:cBhvr>
                                        <p:cTn id="15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830f4"/>
                                      </p:to>
                                    </p:animClr>
                                    <p:set>
                                      <p:cBhvr>
                                        <p:cTn id="16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7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8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9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is Big 6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Big 6 is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An information literacy curriculum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An information problem-solving process that can be used in all areas of lif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A set of skills which provide a strategy for effectively and efficiently meeting information need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75f55"/>
                </a:solidFill>
                <a:latin typeface="Tw Cen MT"/>
              </a:rPr>
              <a:t>Why Should I Use Big 6?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61360" indent="-2613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ig6 uses a multi-level approach so students can develop competency in information problem-solving and decision-making that will carry forward into lifelong, useable skills” (Nuts and Bolts)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ig6 integrates information search and use skills along with technology tools in a systematic process to find, use, apply, and evaluate information for specific needs and tasks” (Robinson 11)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ig6 skills are not taught in isolation, but within context, current curriculum, and everyday experiences” (Robinson 11)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ig6 can be applied as a thinking process to deal with most problems and therefore can be applied consistently and repeatedly throughout the learning program, thereby increasing a student’s chances of learning it” (Hughes 28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0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ig 6 Student Benefi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tudents will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Learn transferable planning and organizing skills they will be able to apply for a lifetim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nd, sort, and apply relevant, credible information to creatively solve a problem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repare a solution based on reliable information, and give proper credit to information sourc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chieve results using any individual learning style; Students will consider if their current style and approach works well for problem solv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Understand general problem-solving concepts and then refine each skill to learn and perfect specific detail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8000"/>
                            </p:stCondLst>
                            <p:childTnLst>
                              <p:par>
                                <p:cTn id="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ig 6 Teacher Benefi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Adaptable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Your current units and lessons can be framed within the Big6 context. Big6 compliments standards-based curriculum, and has terminology to fit student learning in grades K-12 and beyond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Flexible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Emphasize one Big6 skill or all Big6 skills throughout a school year, based on needs in your school, time and resources available, and library/classroom partnership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Collaboration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Big6 facilitates communication among administrators, classroom teachers, and teacher-librarians. The Big6 is useful when you need to coordinate cross-curricular project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Training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Big6 Trainers are professional, in-school educators. Big6 workshops are tailored to meet your local needs, and the Big6.com website resources provide ongoing support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00:57:56Z</dcterms:created>
  <dc:creator>Stoli</dc:creator>
  <dc:description/>
  <dc:language>en-US</dc:language>
  <cp:lastModifiedBy>Stoli</cp:lastModifiedBy>
  <dcterms:modified xsi:type="dcterms:W3CDTF">2009-10-24T01:23:51Z</dcterms:modified>
  <cp:revision>99</cp:revision>
  <dc:subject/>
  <dc:title>Inquiry/research process the information literacy solution</dc:title>
</cp:coreProperties>
</file>