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2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80EDB-B183-44D7-89A4-43152A7374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6A733-96E0-4579-9AEE-E9ECC5845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7A6E5-0562-4186-88E2-649DC2F34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changed the graphic because the Big 6 isn’t really a cycle and it doesn’t have to be linear, so I chose not to use arrow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6E964-DE3E-497F-8AF7-57170121C8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F89DF-E9BD-4861-B764-5DAF8EC63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E7CE9-03D8-41A7-9866-AE89ED77E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B82D5-96FE-450C-A067-4BE8D8F06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5B213-06F9-4A6E-8D15-CD8490D087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DB668-3428-411B-A2FA-9B105B0F0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D3264-7E08-4960-8544-51D06C7756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9CDDB-C9A0-41CC-94C4-FE93FCAC8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91A7E-5200-49C2-AB84-A89882DC5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5E34E-D53B-4E38-B6CB-214B4C491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6B3EF-78DC-4F6E-85E7-FCDEDD5A04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277D-01A6-464E-BB0C-6838D54A2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3BDD-00FA-4607-88C6-ABE6F1EA3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D8E0-3C4C-4E4C-8F01-85004C8D8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E915-99F0-4344-BA29-1F815EAE2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BA13A-71A6-4748-8966-431C773B2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D62D5-3BA7-4442-8018-912352193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725CB-612C-4869-8983-DAF4808AE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FAE2B-DE0C-4943-AC7A-8A7D825CD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39FD2-A362-4729-9FFE-2BF2605A1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D4FC0-A412-437C-9D92-DE97EF920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5C610-A138-48E2-BE8E-0C989F48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E6E3-4074-45CB-89A6-13BAF6AAE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BC6E7-C47A-4B88-9E87-6287A63A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F9F7B-FE9E-4CC3-B378-EF7CC03D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9CB2F-3086-433E-9923-AE727A5F9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03974-4C0D-4942-9432-0DCC81D22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FA4F3-696F-488E-BCC7-F0695AC75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457092-B170-44F6-ACFD-FC399DF04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36E677-88DA-4648-AEA0-23555C0EB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FEBEED-0396-499B-8FF9-78D5AA6B9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DBDA81-42FC-40E0-ADA5-310E232ED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9323C3-3C48-47AD-A8A6-719C1D210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2BC0-7410-4652-8FBF-0B5A5E79B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E78E44-7DE0-4780-9DCA-4CCB8F679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43EE85-153C-4186-A255-0CEC2F411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135181-FEA5-4153-B003-85B9841E6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33E0F5-6E21-486E-8AB4-D1312D7F6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617D8F-7559-4285-A286-D46B3C16D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D2C877-8EE8-43DF-B72B-E9D3B4273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AFD02C-8F21-40FB-BE3B-576EAD57E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6DB891-C907-4DCF-839A-AC8728BF4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2F215F-CF5D-409E-A60F-65C5C8A1E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81AC9C-7C53-49A5-89DE-1CC559BC3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2C2A-2E25-413E-8821-19A6255FC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42875C-4F93-4211-915A-F5560A9A7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2F901A-5D18-4CB8-B293-2D628391A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D98110-6A71-47B1-8DF0-83820A367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B9C16F-1548-4C81-BFCC-E1028157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BBDA0E-A983-4492-9F11-EC2E9C53E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4150FF-9A3F-4028-B65C-33772BC77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47A9CB-7794-441C-B645-EFD662EB0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7463C0-3744-44C3-85AE-AE914CC0B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1815CE-1228-47BE-940C-205AC6A3B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65AFB7-8640-4E18-BA66-3DFE3D00A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DE47-E0A1-4B2D-9D32-2E0B38818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C8E48F-4114-4F7C-86E5-7B81F1E5B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A0F6DA-EAF3-418C-8025-E1DAEC095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8436D5-535E-4455-BF9E-13C937194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226052-E632-4067-8778-2C8CD7761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B80F00-7B1B-415D-8F0E-45A80D47E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B2B05E-8BCA-4074-B420-338518129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369AF6-4BA0-4087-B0DD-ECB6FEC72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D6C578-28E5-47F8-B5B5-19E209E99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F45288-0657-446E-889D-83660B4DE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98A036-9406-4455-B633-019175CE0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89E3-72E7-42B0-ACF6-4864345AD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227CB2-5C63-41DA-95E5-4E20627A7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74E2E5-5638-4A08-ABC6-242CF082D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5C0E4D-75F0-4513-8223-67B693310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0D26E3-5155-4451-9BB5-0910BD176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46D24B-2E5D-49F4-BE83-055BBB83D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DE9A17-4511-4C61-87C0-46C4A164D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E345A3-E78C-48D8-B51E-23682D36D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7ED997-BE87-47F9-9A3D-E3601DC6E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23881-AB2C-47E9-8E80-35C93C8D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061319-0CE7-4BFE-8B28-B917DFEF4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201F-D592-43AD-9F16-F6A69055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BA331-80AF-4F7B-B966-E3E7C30B6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226A2D-6046-4C62-8BB9-C526B0FE4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7BFFFF-2966-4344-A5FD-1DBF48A28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1E5107-FD46-40D7-84EB-C68548853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B28253-0CDF-432E-9B29-585D8607D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28C706-8046-48AE-AE84-D52058FD7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39F744-A1C8-49D6-B45F-7C984FE64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4B9E3F-BD6E-402D-A08F-9F36B2445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9BBD65-7DE9-469F-A489-0F2E24269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2F8952-04B2-41A8-A54A-50FA47A9E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9166-72D5-46EB-805A-74AFBA86E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CBBEF6-C461-4BF9-8ACB-52FCD3F0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8EA045-3E9D-4C2B-BB41-CFF292E7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913792-F8E2-4739-9EF2-E95C5619D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8AB65F-455C-4744-9EE7-C19059122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A08318-01DB-4C9E-8F99-367817DE9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4A3B9E-24DD-437D-8140-51C5F4F53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4B8068-8969-4AC1-AD68-9C45A50E7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9C74E3-0B76-440F-9445-BCA1F3146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8187D2-CD24-4EF6-B76A-FEA1C30B6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4A9143-B3AA-417B-83A6-FEAFE047F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1BBD-783C-46FF-8A6D-E5B78F91E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11B8F5-5124-4AE7-AC07-946A08418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31677E-7DA2-4CD8-9DA2-0B8F15EB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F625AF-87CF-4836-821A-FBDC675ED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262EBD-B9E2-413B-8EE6-3D8FC068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4106C4-1FDD-4387-A21C-D8A89CEBB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4176E7-7B0E-4279-AC34-CB9444E79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528EC9-B2A9-4D67-AA58-90A0225E1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DDCC6-CBDF-49D8-A58C-4E9432E9B137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3275F-519E-4E0C-A501-DF3A660482EC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EE25E-B305-46B4-BD0B-3CB41BA3C726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DE01A-3F5E-4BB3-BCF7-2F8CF06A1068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FDA7E-60CC-49BA-8BB0-C21D1E4D0607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0094B-04E4-461C-9E4A-64E1DCA85EA1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099E9-A04B-4E61-AE7A-29BB8E98ECC1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9D661-DB86-4152-A411-180FCEB67544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big6.co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big6.com/2006/12/10/sing-a-song-of-research-turning-the-big6-into-a-tune/" TargetMode="External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94920" y="2666880"/>
            <a:ext cx="7543800" cy="320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ebddc3"/>
                </a:solidFill>
                <a:latin typeface="Tw Cen MT"/>
              </a:rPr>
              <a:t>BIG 6:</a:t>
            </a:r>
            <a:br>
              <a:rPr sz="9600"/>
            </a:br>
            <a:r>
              <a:rPr b="0" lang="en-US" sz="2800" spc="-1" strike="noStrike">
                <a:solidFill>
                  <a:srgbClr val="ebddc3"/>
                </a:solidFill>
                <a:latin typeface="Tw Cen MT"/>
              </a:rPr>
              <a:t>YOUR INFORMATION LITERACY SOLUTION</a:t>
            </a:r>
            <a:endParaRPr b="0" lang="en-US" sz="28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Mandy Dempsey and Kathryn Stephenson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upport for teaching Big 6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380880" y="1447920"/>
            <a:ext cx="8385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An advantage to the Big6 is that there is a vast array of teaching support and staff development found at </a:t>
            </a:r>
            <a:r>
              <a:rPr b="0" lang="en-US" sz="28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http://www.big6.com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including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Using Big6 in all content areas such as Language Arts, Math, Music, Science, Social Studies, and Special Need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Free resources such as graphic organizers, note taking, activity pages, and mor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nformation on workshops, grants for training, and webinar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Big 6 site for kids to help them understand the process further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he Big 6 Proces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82" name="Content Placeholder 3" descr=""/>
          <p:cNvPicPr/>
          <p:nvPr/>
        </p:nvPicPr>
        <p:blipFill>
          <a:blip r:embed="rId1"/>
          <a:stretch/>
        </p:blipFill>
        <p:spPr>
          <a:xfrm>
            <a:off x="609480" y="1579680"/>
            <a:ext cx="8163000" cy="45352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4" descr="C:\Users\Stoli.Stoli-PC\AppData\Local\Microsoft\Windows\Temporary Internet Files\Content.IE5\VTJZVI1Y\MCj04414980000[1].png"/>
          <p:cNvPicPr/>
          <p:nvPr/>
        </p:nvPicPr>
        <p:blipFill>
          <a:blip r:embed="rId2"/>
          <a:stretch/>
        </p:blipFill>
        <p:spPr>
          <a:xfrm>
            <a:off x="1749600" y="1517760"/>
            <a:ext cx="774360" cy="7747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5" descr="C:\Users\Stoli.Stoli-PC\AppData\Local\Microsoft\Windows\Temporary Internet Files\Content.IE5\VTJZVI1Y\MCj04421290000[1].png"/>
          <p:cNvPicPr/>
          <p:nvPr/>
        </p:nvPicPr>
        <p:blipFill>
          <a:blip r:embed="rId3"/>
          <a:stretch/>
        </p:blipFill>
        <p:spPr>
          <a:xfrm>
            <a:off x="1749600" y="3882960"/>
            <a:ext cx="774360" cy="7682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6" descr="C:\Users\Stoli.Stoli-PC\AppData\Local\Microsoft\Windows\Temporary Internet Files\Content.IE5\VTJZVI1Y\MMAG00146_0000[1].gif"/>
          <p:cNvPicPr/>
          <p:nvPr/>
        </p:nvPicPr>
        <p:blipFill>
          <a:blip r:embed="rId4"/>
          <a:stretch/>
        </p:blipFill>
        <p:spPr>
          <a:xfrm>
            <a:off x="1822320" y="3121200"/>
            <a:ext cx="701640" cy="69516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7" descr="C:\Users\Stoli.Stoli-PC\AppData\Local\Microsoft\Windows\Temporary Internet Files\Content.IE5\FK67HN5B\MCj04415020000[1].png"/>
          <p:cNvPicPr/>
          <p:nvPr/>
        </p:nvPicPr>
        <p:blipFill>
          <a:blip r:embed="rId5"/>
          <a:stretch/>
        </p:blipFill>
        <p:spPr>
          <a:xfrm>
            <a:off x="1749600" y="2279520"/>
            <a:ext cx="774360" cy="7747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8" descr="C:\Users\Stoli.Stoli-PC\Pictures\Microsoft Clip Organizer\j0441510.png"/>
          <p:cNvPicPr/>
          <p:nvPr/>
        </p:nvPicPr>
        <p:blipFill>
          <a:blip r:embed="rId6"/>
          <a:stretch/>
        </p:blipFill>
        <p:spPr>
          <a:xfrm>
            <a:off x="1749600" y="5407200"/>
            <a:ext cx="774360" cy="77436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9" descr="C:\Users\Stoli.Stoli-PC\Pictures\Microsoft Clip Organizer\j0442134.png"/>
          <p:cNvPicPr/>
          <p:nvPr/>
        </p:nvPicPr>
        <p:blipFill>
          <a:blip r:embed="rId7"/>
          <a:stretch/>
        </p:blipFill>
        <p:spPr>
          <a:xfrm>
            <a:off x="1749600" y="4645080"/>
            <a:ext cx="78084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1: Task Defini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Define the Information Problem (What is the task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Identify the Information Needed (What types of information do I need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1" name="Picture 4" descr="C:\Users\Stoli.Stoli-PC\AppData\Local\Microsoft\Windows\Temporary Internet Files\Content.IE5\VTJZVI1Y\MCj04414980000[1].png"/>
          <p:cNvPicPr/>
          <p:nvPr/>
        </p:nvPicPr>
        <p:blipFill>
          <a:blip r:embed="rId1"/>
          <a:stretch/>
        </p:blipFill>
        <p:spPr>
          <a:xfrm>
            <a:off x="8070840" y="225360"/>
            <a:ext cx="77472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ask Definition Exampl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306000" indent="-30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My teacher assigned a project on a famous Texan.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hat is the task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306000" indent="-3060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hoose a famous Texan from my teacher’s list to report on: Lady Bird Johnson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hat information do I need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306000" indent="-3060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Basic information: birthday, family, career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306000" indent="-3060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Why she’s important to the state of Texas/her accomplishment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306000" indent="-3060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4" name="Picture 4" descr="C:\Users\Stoli.Stoli-PC\AppData\Local\Microsoft\Windows\Temporary Internet Files\Content.IE5\VTJZVI1Y\MCj04414980000[1].png"/>
          <p:cNvPicPr/>
          <p:nvPr/>
        </p:nvPicPr>
        <p:blipFill>
          <a:blip r:embed="rId1"/>
          <a:stretch/>
        </p:blipFill>
        <p:spPr>
          <a:xfrm>
            <a:off x="8070840" y="225360"/>
            <a:ext cx="77472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2: </a:t>
            </a:r>
            <a:r>
              <a:rPr b="0" lang="en-US" sz="3800" spc="-1" strike="noStrike">
                <a:solidFill>
                  <a:srgbClr val="775f55"/>
                </a:solidFill>
                <a:latin typeface="Tw Cen MT"/>
              </a:rPr>
              <a:t>Information Seeking Strategies</a:t>
            </a:r>
            <a:endParaRPr b="0" lang="en-US" sz="3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Determine all possible sources (What are the possible sources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Select the best sources (Which sources are the best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7" name="Picture 7" descr="C:\Users\Stoli.Stoli-PC\AppData\Local\Microsoft\Windows\Temporary Internet Files\Content.IE5\FK67HN5B\MCj04415020000[1].png"/>
          <p:cNvPicPr/>
          <p:nvPr/>
        </p:nvPicPr>
        <p:blipFill>
          <a:blip r:embed="rId1"/>
          <a:stretch/>
        </p:blipFill>
        <p:spPr>
          <a:xfrm>
            <a:off x="8375760" y="146160"/>
            <a:ext cx="77472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8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775f55"/>
                </a:solidFill>
                <a:latin typeface="Tw Cen MT"/>
              </a:rPr>
              <a:t>Information Seeking Strategies Example</a:t>
            </a:r>
            <a:endParaRPr b="0" lang="en-US" sz="3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61272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hat are the possible sources to find information on Lady Bird Johnson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earch on Google for information, Use an online database (Encyclopedia Britannica, net Trekker), Encyclopedia, Books on Texas or Lady Bird herself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hich sources are the best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Using Google brings up way too much information and I can get the same information on the online encyclopedia as the book form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’ll start with books about her and then use the internet databases to find more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00" name="Picture 7" descr="C:\Users\Stoli.Stoli-PC\AppData\Local\Microsoft\Windows\Temporary Internet Files\Content.IE5\FK67HN5B\MCj04415020000[1].png"/>
          <p:cNvPicPr/>
          <p:nvPr/>
        </p:nvPicPr>
        <p:blipFill>
          <a:blip r:embed="rId1"/>
          <a:stretch/>
        </p:blipFill>
        <p:spPr>
          <a:xfrm>
            <a:off x="8375760" y="298440"/>
            <a:ext cx="77472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3: Location and Acces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Locate sources (Where is each source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Find information within sources (Where is the information within each source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03" name="Picture 6" descr="C:\Users\Stoli.Stoli-PC\AppData\Local\Microsoft\Windows\Temporary Internet Files\Content.IE5\VTJZVI1Y\MMAG00146_0000[1].gif"/>
          <p:cNvPicPr/>
          <p:nvPr/>
        </p:nvPicPr>
        <p:blipFill>
          <a:blip r:embed="rId1"/>
          <a:stretch/>
        </p:blipFill>
        <p:spPr>
          <a:xfrm>
            <a:off x="8302680" y="225360"/>
            <a:ext cx="69516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Location and Access Exampl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612720" y="160020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71080" indent="-2710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here is each source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543600" indent="-2318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he school library has 3 books on Lady Bird Johnso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43600" indent="-2318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 can access the online databases from my classroom or at hom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here is the information within each source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543600" indent="-2318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he books are all about her, so I’ll use the index and table of contents to find the information I need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43600" indent="-2318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’ll search each database for her name and then click on the articles that are relevant. Then, I’ll need to skim and read them to find what I need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43600" indent="-2318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06" name="Picture 6" descr="C:\Users\Stoli.Stoli-PC\AppData\Local\Microsoft\Windows\Temporary Internet Files\Content.IE5\VTJZVI1Y\MMAG00146_0000[1].gif"/>
          <p:cNvPicPr/>
          <p:nvPr/>
        </p:nvPicPr>
        <p:blipFill>
          <a:blip r:embed="rId1"/>
          <a:stretch/>
        </p:blipFill>
        <p:spPr>
          <a:xfrm>
            <a:off x="8150400" y="298440"/>
            <a:ext cx="69516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4: Use of Informa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Engage (e.g. read, hear, view, touch) (How can I best use each source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Extract relevant information (What information in each source is useful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09" name="Picture 5" descr="C:\Users\Stoli.Stoli-PC\AppData\Local\Microsoft\Windows\Temporary Internet Files\Content.IE5\VTJZVI1Y\MCj04421290000[1].png"/>
          <p:cNvPicPr/>
          <p:nvPr/>
        </p:nvPicPr>
        <p:blipFill>
          <a:blip r:embed="rId1"/>
          <a:stretch/>
        </p:blipFill>
        <p:spPr>
          <a:xfrm>
            <a:off x="8070840" y="298440"/>
            <a:ext cx="77472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Use of Information Exampl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805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58120" indent="-2581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How can I best use each source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518040" indent="-2206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 will use the table of contents of the books to find the most important information first. Then, I’ll read the shorter books completely to get more information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18040" indent="-2206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 will read the articles found through the databases. I might have to skim first to find what I need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58120" indent="-2581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hat information in each source is useful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518040" indent="-2206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 found the basic information in the books, but one of them was just about her accomplishments as first lady of Texas and the wildflower project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18040" indent="-2206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ome database articles were more of the same and some were more in depth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58120" indent="-2581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2" name="Picture 5" descr="C:\Users\Stoli.Stoli-PC\AppData\Local\Microsoft\Windows\Temporary Internet Files\Content.IE5\VTJZVI1Y\MCj04421290000[1].png"/>
          <p:cNvPicPr/>
          <p:nvPr/>
        </p:nvPicPr>
        <p:blipFill>
          <a:blip r:embed="rId1"/>
          <a:stretch/>
        </p:blipFill>
        <p:spPr>
          <a:xfrm>
            <a:off x="8070840" y="298440"/>
            <a:ext cx="77472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he Information Proble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086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26440" indent="-22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“…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Young children tackle tasks, make decisions, and solve problems on an academic and personal level every day” (Robinson10).  As they do so, they are constantly being bombarded with information from a variety of sources. If we expect them to be successful in school and become productive members of society, we need to teach them </a:t>
            </a:r>
            <a:r>
              <a:rPr b="0" i="1" lang="en-US" sz="2900" spc="-1" strike="noStrike">
                <a:solidFill>
                  <a:srgbClr val="000000"/>
                </a:solidFill>
                <a:latin typeface="Tw Cen MT"/>
              </a:rPr>
              <a:t>information literacy skills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o help them be effective life-long learners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26440" indent="-22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26440" indent="-2264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26440" indent="-22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1" name="Picture 4" descr="C:\Users\Mandy\AppData\Local\Microsoft\Windows\Temporary Internet Files\Content.IE5\I33D4CIP\MCj02997510000[1].wmf"/>
          <p:cNvPicPr/>
          <p:nvPr/>
        </p:nvPicPr>
        <p:blipFill>
          <a:blip r:embed="rId1"/>
          <a:stretch/>
        </p:blipFill>
        <p:spPr>
          <a:xfrm>
            <a:off x="6858000" y="4924440"/>
            <a:ext cx="205740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5: Synthes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Organize from multiple sources (How can I organize my information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Present the Information (How can I present the information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5" name="Picture 9" descr="C:\Users\Stoli.Stoli-PC\Pictures\Microsoft Clip Organizer\j0442134.png"/>
          <p:cNvPicPr/>
          <p:nvPr/>
        </p:nvPicPr>
        <p:blipFill>
          <a:blip r:embed="rId1"/>
          <a:stretch/>
        </p:blipFill>
        <p:spPr>
          <a:xfrm>
            <a:off x="7997760" y="225360"/>
            <a:ext cx="78120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ynthesis Exampl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5335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How can I organize my information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’m typing up my notes on a word document, organized into categories: basic information, the wildflower project, here career, first lady experienc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How can I present the information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’m going to make a timeline of her life on a poster board and a time capsule in a shoe box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8" name="Picture 9" descr="C:\Users\Stoli.Stoli-PC\Pictures\Microsoft Clip Organizer\j0442134.png"/>
          <p:cNvPicPr/>
          <p:nvPr/>
        </p:nvPicPr>
        <p:blipFill>
          <a:blip r:embed="rId1"/>
          <a:stretch/>
        </p:blipFill>
        <p:spPr>
          <a:xfrm>
            <a:off x="7997760" y="225360"/>
            <a:ext cx="78120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6: Evalua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Judge the product-effectiveness (Is the task completed/Did I do what was required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Judge the process-efficiency (How can I do things better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21" name="Picture 8" descr="C:\Users\Stoli.Stoli-PC\Pictures\Microsoft Clip Organizer\j0441510.png"/>
          <p:cNvPicPr/>
          <p:nvPr/>
        </p:nvPicPr>
        <p:blipFill>
          <a:blip r:embed="rId1"/>
          <a:stretch/>
        </p:blipFill>
        <p:spPr>
          <a:xfrm>
            <a:off x="8070840" y="298440"/>
            <a:ext cx="77472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valuation Exampl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Did I complete the task and do what was required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 completed the project on time included important information without giving every detail of her life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How can I do things better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 think I did a pretty good job. Typing on a word document and going back and forth between windows was a bit slow for me. Maybe next time I can organize my notes on index cards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24" name="Picture 8" descr="C:\Users\Stoli.Stoli-PC\Pictures\Microsoft Clip Organizer\j0441510.png"/>
          <p:cNvPicPr/>
          <p:nvPr/>
        </p:nvPicPr>
        <p:blipFill>
          <a:blip r:embed="rId1"/>
          <a:stretch/>
        </p:blipFill>
        <p:spPr>
          <a:xfrm>
            <a:off x="8070840" y="298440"/>
            <a:ext cx="77472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Integration into Curriculu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Math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: use The Big 6 as a problem solving strategy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Language Arts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: Use The Big 6 to research for presentations or solve characters’ problem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Science: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Use The Big 6 as a guide in experiment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Social Studies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: Use The Big 6 to find a proposed solution to a cultural or social problem, as well as to gather information on historical events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onclus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s a teacher, you have many information gathering models to choose from. Although the Big6 may not be completely different than other models, the advantages are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ear language that students can understand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asy to follow step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amount of support available on the Big6 website and all over the internet to assist in integrating it into your curriculu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775f55"/>
                </a:solidFill>
                <a:latin typeface="Tw Cen MT"/>
              </a:rPr>
              <a:t>Just For Fun</a:t>
            </a:r>
            <a:endParaRPr b="0" lang="en-US" sz="8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612720" y="15998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eachers, engage your students before you begin with the Big 6 song!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http://www.big6.com/2006/12/10/sing-a-song-of-research-turning-the-big6-into-a-tune/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31" name="Picture 2" descr="C:\Users\Mandy\AppData\Local\Microsoft\Windows\Temporary Internet Files\Content.IE5\I33D4CIP\MCj02327280000[1].wmf"/>
          <p:cNvPicPr/>
          <p:nvPr/>
        </p:nvPicPr>
        <p:blipFill>
          <a:blip r:embed="rId2"/>
          <a:stretch/>
        </p:blipFill>
        <p:spPr>
          <a:xfrm>
            <a:off x="3733920" y="3276720"/>
            <a:ext cx="16207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orks Cited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"Nuts and Bolts of Big6." 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AT&amp;T Knowledge Network Explorer Homepage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. Web. 19 Oct. 2009.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&lt;http://www.kn.pacbell.com/wired/big6&gt;.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Berkowitz, Robert E. and Mike Eisenberg. 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The Big6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. Big 6, 2009. Web. 18 Oct. 2009.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&lt;http://www.big6.com&gt;.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"Big Six Steps- CRLS Research Guide." 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Basic Steps to Creating a Research Project- CRLS Research Guide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.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Web. 19 Oct. 2009. &lt;http://www.crlsresearchguide.org/Big_Six_Steps.asp&gt;.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"Big6 Super3 template." 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Instructional Technology Media Center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. Web. 19 Oct. 2009.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&lt;http://205.213.162.11/project_big6/super3/super3.htm&gt;.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Eisenberg, Michael. "It's All About Learning: Ensuring That Students Are Effective Users of Information on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tandardized Tests." 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School Library Management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. 6th ed. Columbus: Linworth Books, 2007. Print.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Hughes, Sandra. “The Big6 as a Strategy for Student Research.” 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School Libraries in Canada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22.4 (2003):28.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Journal Article.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Robinson, Laura Eisenberg. “Early Learners.” 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Library Media Connection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27.2 (2008): 10-11. Journal Article.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All images courtesy of Microsoft Clip-Art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hat is Information Literacy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s stated in the Information Literacy Competency Standards for Higher Education, “Information literacy is a set of abilities requiring individuals to ‘recognize when information is needed and have the ability to locate, evaluate, and use effectively the needed information”(Robinson 10)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nformation literacy instruction needs to begin with our youngest learners…” (Robinson 10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600200" y="4647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What’s a teacher to do?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1560240" y="-360"/>
            <a:ext cx="7583400" cy="456876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600200" y="54860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What method should YOU choose?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7" name="Picture 8" descr="C:\Users\Mandy\AppData\Local\Microsoft\Windows\Temporary Internet Files\Content.IE5\I33D4CIP\MCj04114940000[1].wmf"/>
          <p:cNvPicPr/>
          <p:nvPr/>
        </p:nvPicPr>
        <p:blipFill>
          <a:blip r:embed="rId2"/>
          <a:stretch/>
        </p:blipFill>
        <p:spPr>
          <a:xfrm>
            <a:off x="2819520" y="914400"/>
            <a:ext cx="439884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75f55"/>
                </a:solidFill>
                <a:latin typeface="Tw Cen MT"/>
              </a:rPr>
              <a:t>Never Fear</a:t>
            </a:r>
            <a:endParaRPr b="0" lang="en-US" sz="6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w Cen MT"/>
              </a:rPr>
              <a:t>BIG 6</a:t>
            </a:r>
            <a:endParaRPr b="0" lang="en-US" sz="9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w Cen MT"/>
              </a:rPr>
              <a:t>IS HERE!</a:t>
            </a:r>
            <a:endParaRPr b="0" lang="en-US" sz="9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0" name="Picture 5" descr="C:\Users\Stoli.Stoli-PC\AppData\Local\Microsoft\Windows\Temporary Internet Files\Content.IE5\8MJD2KME\MCj04418880000[1].wmf"/>
          <p:cNvPicPr/>
          <p:nvPr/>
        </p:nvPicPr>
        <p:blipFill>
          <a:blip r:embed="rId1"/>
          <a:stretch/>
        </p:blipFill>
        <p:spPr>
          <a:xfrm>
            <a:off x="3657600" y="4724280"/>
            <a:ext cx="226368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830f4"/>
                                      </p:to>
                                    </p:animClr>
                                    <p:animClr clrSpc="rgb">
                                      <p:cBhvr>
                                        <p:cTn id="7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830f4"/>
                                      </p:to>
                                    </p:animClr>
                                    <p:set>
                                      <p:cBhvr>
                                        <p:cTn id="8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0" dur="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1" dur="150" fill="hold">
                                          <p:stCondLst>
                                            <p:cond delay="35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830f4"/>
                                      </p:to>
                                    </p:animClr>
                                    <p:animClr clrSpc="rgb">
                                      <p:cBhvr>
                                        <p:cTn id="15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830f4"/>
                                      </p:to>
                                    </p:animClr>
                                    <p:set>
                                      <p:cBhvr>
                                        <p:cTn id="16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7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8" dur="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9" dur="150" fill="hold">
                                          <p:stCondLst>
                                            <p:cond delay="35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hat is Big 6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Big 6 is: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An information literacy curriculum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An information problem-solving process that can be used in all areas of life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A set of skills which provide a strategy for effectively and efficiently meeting information needs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6000"/>
                            </p:stCondLst>
                            <p:childTnLst>
                              <p:par>
                                <p:cTn id="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75f55"/>
                </a:solidFill>
                <a:latin typeface="Tw Cen MT"/>
              </a:rPr>
              <a:t>Why Should I Use Big 6?</a:t>
            </a:r>
            <a:endParaRPr b="0" lang="en-US" sz="5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61360" indent="-2613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Big6 uses a multi-level approach so students can develop competency in information problem-solving and decision-making that will carry forward into lifelong, useable skills” (Nuts and Bolts)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Big6 integrates information search and use skills along with technology tools in a systematic process to find, use, apply, and evaluate information for specific needs and tasks” (Robinson 11)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Big6 skills are not taught in isolation, but within context, current curriculum, and everyday experiences” (Robinson 11)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Big6 can be applied as a thinking process to deal with most problems and therefore can be applied consistently and repeatedly throughout the learning program, thereby increasing a student’s chances of learning it” (Hughes 28)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 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3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3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3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3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00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30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30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90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30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30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Big 6 Student Benefi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tudents will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Learn transferable planning and organizing skills they will be able to apply for a lifetim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nd, sort, and apply relevant, credible information to creatively solve a problem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Prepare a solution based on reliable information, and give proper credit to information sourc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Achieve results using any individual learning style; Students will consider if their current style and approach works well for problem solv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Understand general problem-solving concepts and then refine each skill to learn and perfect specific detail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6000"/>
                            </p:stCondLst>
                            <p:childTnLst>
                              <p:par>
                                <p:cTn id="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8000"/>
                            </p:stCondLst>
                            <p:childTnLst>
                              <p:par>
                                <p:cTn id="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0"/>
                            </p:stCondLst>
                            <p:childTnLst>
                              <p:par>
                                <p:cTn id="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Big 6 Teacher Benefi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Adaptable: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Your current units and lessons can be framed within the Big6 context. Big6 compliments standards-based curriculum, and has terminology to fit student learning in grades K-12 and beyond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Flexible: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Emphasize one Big6 skill or all Big6 skills throughout a school year, based on needs in your school, time and resources available, and library/classroom partnership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Collaboration: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Big6 facilitates communication among administrators, classroom teachers, and teacher-librarians. The Big6 is useful when you need to coordinate cross-curricular project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Training: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Big6 Trainers are professional, in-school educators. Big6 workshops are tailored to meet your local needs, and the Big6.com website resources provide ongoing support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600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1T00:57:56Z</dcterms:created>
  <dc:creator>Stoli</dc:creator>
  <dc:description/>
  <dc:language>en-US</dc:language>
  <cp:lastModifiedBy>Stoli</cp:lastModifiedBy>
  <dcterms:modified xsi:type="dcterms:W3CDTF">2009-10-24T01:23:51Z</dcterms:modified>
  <cp:revision>99</cp:revision>
  <dc:subject/>
  <dc:title>Inquiry/research process the information literacy solution</dc:title>
</cp:coreProperties>
</file>