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448E-AED2-4FEF-A676-3B7675B9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BF64-C867-4538-BDC9-11CC52FC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A1C8-F43D-4F4D-A210-A6C7E0C2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BC3C-227F-4936-9608-10BB1995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55EC-9909-45F0-8CAE-3D9F5AEF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B8BE-6252-455D-A885-8B468B5A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1C6-2AF5-4940-938A-9496D185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5A6-296A-4978-9430-B8D08806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A222-A44C-4BA7-9F7D-5DE6007D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0AA-2977-42E8-A389-255094AE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B8D-9333-4CD4-8FE1-EA6A29C8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E2E8-6FCC-4299-A53F-DE5928F6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75E-9493-483A-A67A-558D4FD1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27F-3D04-49E5-A8DA-0405394D6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5597-76BF-452E-B5C3-918CEF6C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B49-C39D-4DC1-B161-80F0B248B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582-39A9-4019-B01D-AD5291E4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58B-DCD0-4B23-8FCB-64974F0C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4CB-80EB-4C13-9C69-FBDAD395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153-B2C6-4D54-9F09-4A3C2185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E836-3B38-450E-810F-F70511DC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48A7-CAE3-4B10-A9D7-18C2DC43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AE0-EE04-4D0A-B505-2348FE98C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600D-17D8-40DA-911C-C49E1443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C2E-CF59-4606-B27D-4709DB93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F620-CFFE-4526-9ED8-72991732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875-5F01-4D64-9A30-A0D574F7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C91-9AB2-495F-BD50-E9BAFB02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A7A-DF3B-4E0E-807A-E45EF218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486-AFD4-487D-85E6-511837F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7C18-51B4-411A-B9C1-C798A74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F9E-E268-4531-A972-45A9E28D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883-752C-4B4F-ADB7-BEE704C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A136-A729-4439-AC92-AA56CDE2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423-73B2-4E74-890E-E417B011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7EA9-F94D-41FE-91E7-6A8AF11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9B26-4CC5-4274-85EF-6EB7B58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270-3C4F-4193-AACC-8F6D40B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148-B324-4697-AD5C-6F45A6C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EDF-F1C2-464D-AB85-BF38D73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399-E98A-4820-9F6B-90F6CA80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7F39-D9CF-4876-B82D-32973445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5FC1-FAE6-469B-A4EC-5B089CB9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F5C02-F204-4734-B2D9-91AB1C50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08E95-0473-4A82-8907-AB7B7C4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6BD3E-CCDE-4D13-A46B-4B01B022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5033D-9994-4E86-92F2-C746A55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988FD-4530-46CF-B07D-9602206C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477-661C-4C74-A47E-D4C4FD9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3F03D-F561-43B9-8399-BFC7026B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980D7-A561-4665-B73D-4B0F24A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BD4FF-AF5F-4261-B686-24B9D5D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0BB6D-D673-47E8-8C11-88670BCE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44966-07FE-4826-972F-4F785C6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85FC4-40D9-42CA-B306-B960149A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38E27-444B-4C19-8E0C-0DC11E9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2F6A6-1AA7-4EA3-9B3E-C7BA8F13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5FD15-8D75-4D19-B176-7A24CFF1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E6A82-E9FD-4DAB-934E-1CD8400C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4CF-89C6-4B89-9825-E8A0F73B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5DD6B-FCCD-4DD2-9491-325D087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2B9FE-D10A-40A5-AD4F-AEEEE318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D14F0-AA96-436C-9CFC-5CAAF10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BB12D-489B-4F08-BA5C-A364BC3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A1C2B-0BD9-4223-9F10-2E8DE67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87A31-1EE0-462D-94A1-D945400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430B1-E3DA-4479-9B8C-B8B7070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018FA-8EAD-463E-BD56-8F425F0F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B4664-30A8-4B09-B0A9-00DDABE8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9BE2B-48E4-4ECD-9CB2-3A003F8A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AE5-28BD-40BE-A121-BBCB785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E4F8F-9210-4A44-85B3-7A936F1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A9935-64E1-462E-B155-8BDF120A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E52BE-6617-426D-9167-B83BE137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FAC17-170B-4C87-8286-C3766F5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906B2-2802-478D-974A-D36CB45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9E99E-20CD-4A76-873C-3B4FD39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12771-C29A-4522-9E00-B3D774D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B99A3-D10B-4F93-9EFC-54ACB24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9E3A8-EAE9-4AD0-A298-B0B71A4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BD550-7367-4E21-8560-D43597C5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4F5-F99F-4FD4-BA5B-EFCFFF0E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A119A-E308-467B-8645-FECD338F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6E9C-0FDA-486E-B82F-5ACFE43C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B217-232E-452C-8BE6-72F6AB4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B983-0D94-41FF-BF62-685BDFD4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4869E-C0F2-4CC8-84DF-62B7F64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B067-DAA6-4087-9D60-13572C9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B41B-C494-413F-9C24-E3C05EE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DBE5-9918-4B93-A6AC-9D079B5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9089-E8CB-40C8-A435-B29D175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AFAD-300D-4617-8E50-54EB724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F10-8F31-4D35-BCFD-59DDC05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9282-1E74-4245-9D40-812431A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9D46-C297-43EA-A1CC-B02F03B2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79CF-C152-47FF-90F8-C56E8FA5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9649B-FB99-4CEB-9606-B2C46486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DD9AF-C3FB-4F17-97BC-FDC6663B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DCF21-95CF-4988-8C5C-5394B28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E1244-F597-4855-97AB-DE66C6B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91B50-F69C-4B02-9000-5243572F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D512C-1515-43B7-8FB2-F8170F10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E4F37-210F-4939-BDA3-310DC28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A3C-6AE3-4441-9FE5-F61D1E7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2DA5F-6841-44E8-8ABE-09E952C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58FDA-2CBE-48EC-92DA-44BEF53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7A6CF-21EE-4A59-9338-8492F6EF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F4EB8-973F-4498-84EA-8558488D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F217C-818A-49BD-B414-7E3BAB89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4F0C-EB63-4D50-A276-81E8A83A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244D-2CB3-4D03-9184-8DA77E8C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50DBC-45EE-4669-B7F2-649E4D8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6669B-00DA-4A90-B80D-FBCF732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7C81B-0742-45AC-B50D-B8ED9B7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014-2867-4F4B-88EF-D581367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C6D44-08D9-4DA2-8FBF-7AE4B00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2A1C-5088-4356-850F-BC884E3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856D-1EEC-4F0F-8A34-B575EC8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DF6FC-AFF4-48FD-AC3C-A17FD3D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65D3-C534-453B-BEDF-36A598CC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AA5A-34B7-4025-B05C-A4D94D86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82496-7986-43F5-BBB1-4B82511D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6376-EEAA-4773-A45F-7288036428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19B-057C-40AE-8ABF-6F2D91C4BF4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2B05-D0BC-4668-ACC0-B35262D22A1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69E-3EE0-4EC3-A766-6BE7FA3585F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C246-36E1-422C-B6E3-E1D642EA08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243-088A-462A-AF1C-D41D36EC12D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5DB-9CCE-417A-AC21-21ED06AB64D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EC5-4E2C-469C-BEB7-F6E1C09BD6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AT&amp;T Knowledge Network Explorer: 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Homem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y Should Teachers Use Big 6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Nuts and Bolts of Big6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 (Robinson 11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26:54Z</dcterms:modified>
  <cp:revision>88</cp:revision>
  <dc:subject/>
  <dc:title>Inquiry/research process the information literacy solution</dc:title>
</cp:coreProperties>
</file>