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6DF0-7656-435B-9321-3FDE451A8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4DCF-E5DE-46D3-843D-32244B77C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C3CF-446B-4934-B6A5-4EEFA4AD0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EC85-AF25-4D78-88E7-00768683D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F20C-0A22-4A40-9808-D07B3E00B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710B-1022-47AA-94C4-781A3F697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37F1-17AA-4DAB-9022-5FE682EAB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8310-F44C-452C-8F1F-7A6F1AA04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6F7E-9DBC-4BB9-BE67-94F8A746E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4D72-B275-4AC5-B305-C589226DB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4F0B-179F-4512-8E52-70EB329C9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14AF-FF6D-41A8-B9C5-BB8AE7820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65C8-61C6-4156-BD46-6E9389665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75A5-A84B-4773-81F8-DFE6B494E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4CA7-8E6F-410B-A6EE-BF4C98E30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F5D6-76D3-4715-B6C2-966BBD1D5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A7B8-8EF3-4102-8C7F-09629EF11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0E4B-8402-41FE-BDE9-05D31F98F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8A50-FC76-4200-BE05-B07B0070D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2678-B1D8-4013-A053-3D301F39C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8AAE-EBD6-4950-B7AD-F3A429FCD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1CBD-228A-4B74-B104-9440101E5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7111-A35A-43A2-8755-70B080B6B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62D8-640A-48F3-9B36-4D7AEFCC7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E487-2637-4321-82A8-4D38DF8F5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the graphic because the Big 6 isn’t really a cycle and it doesn’t have to be linear, so I chose not to use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10FD-FF81-4BC6-A81B-5F6514C8F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5A5-E95F-469C-BA48-FFC0C57E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A13-1DE8-4C1E-919A-862B01AC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FBE-0247-45E2-AC0A-CF521785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F35-0262-4C8E-804B-4C011D55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3B7D-CD63-47BF-AFE9-43A00254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BC32-E71E-4E2E-BB9B-B74709DE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0B2B-F9E2-4D02-81EE-C148F2F6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1704-B390-41B8-873B-A1CE11C7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698E-5396-41AB-92B7-6BB5858D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4656-721E-45D8-8AC6-085AE48E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D731-3E69-4343-BAC9-9A9AD19B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2DF-5A36-4D96-A679-E883A059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29AA-300D-437F-AF80-1E1176FC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4B9B-23E6-4C21-9182-05F24C2B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BCA8-CA90-4AA8-8BC9-FFECEC88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9809-1A10-4CFE-9525-4A6AF1BB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C294-FF3B-46D4-8B2F-03D1849D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4CCCB-3B27-4BBE-BC04-20582D31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101B2-F79C-49A8-8D23-0C9C8D95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06270-47E6-4E31-A101-9B41270C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ED1C0-F5EB-40B3-B508-F8A8A62C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E3D3A-B214-4D87-B28E-AC69A23A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C25-2E8C-4B7F-B89D-8E5FA856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005981-EB5E-4DA4-9D01-C616954C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D35CB-FF80-4ACE-B544-D8CF04A2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DBA46-FB04-488E-9016-8002BDA6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79165-1BC8-4E31-AF5E-8FB9B32C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78491-7719-4552-A1A0-382A297E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9191B-7BFD-434D-B846-D3371E01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F0A80-8ABA-4497-AAA7-51C28D26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A00A3-6E3F-49BA-9AFD-1D660E1B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64DCB5-7591-48FC-9778-F674A46A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48E01F-881D-41B4-95F2-2444E912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6A7-A0AC-428E-9757-755ED281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DC5ABA-6BC7-4FC9-A34C-340E45F6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092A8-F1EB-4683-B9A5-5F1F9750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C0E3D2-7A09-4F4C-8508-DEB3E001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A00EFA-336C-43CA-9632-485379B5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43B101-8787-4898-B325-5E21AD89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D05984-A3ED-4E82-9FF8-F710B2F1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3BEFB2-C1F8-4F9B-9D01-5078DDD8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80368F-7DBC-476E-95A4-E6F1F8DD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D6456-2E47-4388-83D4-5B74E3C0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CC243-C212-4420-A047-1FD38568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EAA-9BE7-48C2-9BE5-652E080D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72D4D-EE43-4844-83AF-93B2215B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8030A-3BDC-439A-8100-ECF29403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92BFC9-7FF5-454D-8483-90A2F48B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FFD04-B1A1-406F-85E0-6CE7B6E9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02096-721E-4F13-949D-1DB64C3A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6AF637-43CB-49D4-821C-C542DEDF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6C80E-2C24-4D26-BD49-79F175B6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2876C7-4030-46BD-B5BC-C697BE4B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61971-C771-4E93-BF45-28424F39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53BCA5-0E4C-4DF0-958E-FA1B7397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B0F-DFE5-4AE6-9CF0-F3E526C6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6A9ABE-1CC7-456B-BAEB-C49E26AC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9D80B-6BC3-49AD-9D0C-D3118314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2BF94-D0E1-483B-9F8E-4B11864F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B2A0E-49E0-470D-B9B8-37D579D8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C626B-805F-4D20-B074-63075734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009DC-DEFA-4EAF-8494-E72B4998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FAE5F-80B5-4961-ABF3-EC2F4613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C3B0A-E3A6-4EBD-B932-6F553990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4012E-6357-4241-A560-EE3081FC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691F4-308F-4E5A-A9A2-C16F9390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D26-3EFA-4B8E-AE6E-F2001BE6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14C6C-B7E1-422E-A2FF-3B4F9179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A06A2-E047-40DB-A68E-A6288F55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E7EE4-755B-46BA-868A-6FE09F08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E7EC37-D305-40D5-9C7B-219DAFEC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791BFE-9E28-43E7-9DB9-8C1AFA04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8B125-4EBB-47D8-B198-2A3F0389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8AFC28-3D1C-462F-9961-87BBAD0B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01B91F-5A42-4BE3-9B02-BA77BB40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299E15-8EFC-4A4D-B9AC-FB0C4809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8DE9BE-79F3-46AD-B949-221F76C9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2C2-FAFB-4681-8D79-89610733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0F4D8-B9F0-45C4-891E-B665B391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906D6-AD94-41AC-8A9C-82C8D203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D8D14-675D-4A8A-BC44-B5056EF4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04CA81-2AA8-4D74-B6F0-18DF88D2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7713ED-72DF-4688-B823-B504561A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C784E-629E-44A3-85F2-BC32B931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A98E2-3279-4A3E-B444-F9E5D70A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1AF21-1FB9-478E-BAFE-4B0F9D0D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5B085-3E89-4FFF-A67B-145E2DDA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CA1D5-7BA1-4399-BA45-0423B6F3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EB1-B4D3-43A4-8A9C-EDBE54B8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16F4F-BE52-42E9-A709-E6D81A17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25671-80DC-4C79-8EC1-3D6B5570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0B128-1A7D-4AC0-A407-95C86214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D2C3C-6B9A-4300-AFE8-4E548D50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BD1C1-8A5C-4AE7-87B1-564D3BD0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317CF-2EE5-4F5A-B7F9-F5F8465F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0C779-319E-4034-B528-855954AD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1593-11DB-4843-A750-463294913AE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FFD2-8F7A-49EB-BF35-D165631FCEE0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8D62-4CA7-4812-B59F-D57E4A8497E2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47BC-416C-4BCD-90D4-61B3F0508AA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0C4E-679E-4E3E-AA69-F6516CCC97B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D335-974B-4042-B4DA-16E86F1CE61A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A562-290F-4DBC-ACD8-BFCAF04EE9D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13CE-0D8A-45FA-BE1B-2F8C93F999C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g6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YOUR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: Task 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fine the Information Problem (What is the task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dentify the Information Needed (What types of information do I ne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sk Defini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y teacher assigned a project on a famous Texa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oose a famous Texan from my teacher’s list to report on: Lady Bird Johns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do I ne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sic information: birthday, family, care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y she’s important to the state of Texas/her accomplish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2: 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Information Seeking Strategie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termine all possible sources (What are the possible sources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elect the best sources (Which sources are the best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Information Seeking Strategies Examp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are the possible sources to find information on Lady Bird Johns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arch on Google for information, Use an online database (Encyclopedia Britannica, net Trekker), Encyclopedia, Books on Texas or Lady Bird hersel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ich sources are the best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Google brings up way too much information and I can get the same information on the online encyclopedia as the book for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tart with books about her and then use the internet databases to find mor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3: Location and Ac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ocate sources (Where is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Find information within sources (Where is the information within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cation and 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chool library has 3 books on Lady Bird Johns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an access the online databases from my classroom or at ho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the information within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books are all about her, so I’ll use the index and table of contents to find the information I ne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earch each database for her name and then click on the articles that are relevant. Then, I’ll need to skim and read them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Use of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ngage (e.g. read, hear, view, touch) (How can I best use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xtract relevant information (What information in each source is useful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 of Inform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best use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use the table of contents of the books to find the most important information first. Then, I’ll read the shorter books completely to get more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read the articles found through the databases. I might have to skim first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in each source is useful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found the basic information in the books, but one of them was just about her accomplishments as first lady of Texas and the wildflower project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me database articles were more of the same and some were more in dept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Synthe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rganize from multiple sources (How can I organize my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Present the Information (How can I present the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nthesi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organize my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typing up my notes on a word document, organized into categories: basic information, the wildflower project, here career, first lady experi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present the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going to make a timeline of her life on a poster board and a time capsule in a shoe box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Information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ng children tackle tasks, make decisions, and solve problems on an academic and personal level every day” (Robinson10).  As they do so, they are constantly being bombarded with information from a variety of sources. If we expect them to be successful in school and become productive members of society, we need to teach them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nformation literacy skil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help them be effective life-long learn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6858000" y="4924440"/>
            <a:ext cx="2057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duct-effectiveness (Is the task completed/Did I do what was requir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cess-efficiency (How can I do things better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valu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d I complete the task and do what was requir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ompleted the project on time included important information without giving every detail of her lif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do things better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think I did a pretty good job. Typing on a word document and going back and forth between windows was a bit slow for me. Maybe next time I can organize my notes on index card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a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as a problem solving strateg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Language Ar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research for presentations or solve characters’ proble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cience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The Big 6 as a guide in experi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ocial Studi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find a proposed solution to a cultural or social problem, as well as to gather information on historical event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teacher, you have many information gathering models to choose from. Although the Big6 may not be completely different than other models, the advantages a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ear language that students can underst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y to follow ste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mount of support available on the Big6 website and all over the internet to assist in integrating it into your curricul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AT&amp;T Knowledge Network Explorer: Nuts and Bolts of Big6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AT&amp;T Knowledge Network Explorer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Homempag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&lt;http://www.kn.pacbell.com/wired/big6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erkowitz, Robert E. and Mike Eisenberg.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The Big6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Big 6, 2009. Web. 18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big6.com&gt;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 Six Steps- CRLS Research Guid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Basic Steps to Creating a Research Project- CRLS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Research Guid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crlsresearchguide.org/Big_Six_Steps.asp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6 Super3 templat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Instructional Technology Media Center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205.213.162.11/project_big6/super3/super3.htm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isenberg, Michael. "It's All About Learning: Ensuring That Students Are Effective Users of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Information on Standardized Tests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y Management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6th ed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Columbus: Linworth Books, 2007. Print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Hughes, Sandra. “The Big6 as a Strategy for Student Research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ies in Canada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2.4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(2003):28. 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obinson, Laura Eisenberg. “Early Learners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Library Media Connection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7.2 (2008): 10-11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nformation Literac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tated in the Information Literacy Competency Standards for Higher Education, “Information literacy is a set of abilities requiring individuals to ‘recognize when information is needed and have the ability to locate, evaluate, and use effectively the needed information”(Robinson 10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 instruction needs to begin with our youngest learners…” (Robinson 1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n information problem-solving process that can be used in all areas of lif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Nuts and Bolts of Big6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Why Should Teachers Use Big 6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 (Nuts and Bolts of Big6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 (Robinson 11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 (Robinson 11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 (Hughes 28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; Students will consider if their current style and approach works well for problem sol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ig6.com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Big6.com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0880" y="1447920"/>
            <a:ext cx="8385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advantage to the Big6 is that there is a vast array of teaching support and staff development found at 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g 6 site for kids to help them understand the process furth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5" name="Content Placeholder 3" descr=""/>
          <p:cNvPicPr/>
          <p:nvPr/>
        </p:nvPicPr>
        <p:blipFill>
          <a:blip r:embed="rId1"/>
          <a:stretch/>
        </p:blipFill>
        <p:spPr>
          <a:xfrm>
            <a:off x="609480" y="1573200"/>
            <a:ext cx="8163000" cy="4541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C:\Users\Stoli.Stoli-PC\AppData\Local\Microsoft\Windows\Temporary Internet Files\Content.IE5\VTJZVI1Y\MCj04414980000[1].png"/>
          <p:cNvPicPr/>
          <p:nvPr/>
        </p:nvPicPr>
        <p:blipFill>
          <a:blip r:embed="rId2"/>
          <a:stretch/>
        </p:blipFill>
        <p:spPr>
          <a:xfrm>
            <a:off x="1749600" y="151776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C:\Users\Stoli.Stoli-PC\AppData\Local\Microsoft\Windows\Temporary Internet Files\Content.IE5\VTJZVI1Y\MCj04421290000[1].png"/>
          <p:cNvPicPr/>
          <p:nvPr/>
        </p:nvPicPr>
        <p:blipFill>
          <a:blip r:embed="rId3"/>
          <a:stretch/>
        </p:blipFill>
        <p:spPr>
          <a:xfrm>
            <a:off x="1749600" y="3882960"/>
            <a:ext cx="774360" cy="768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C:\Users\Stoli.Stoli-PC\AppData\Local\Microsoft\Windows\Temporary Internet Files\Content.IE5\VTJZVI1Y\MMAG00146_0000[1].gif"/>
          <p:cNvPicPr/>
          <p:nvPr/>
        </p:nvPicPr>
        <p:blipFill>
          <a:blip r:embed="rId4"/>
          <a:stretch/>
        </p:blipFill>
        <p:spPr>
          <a:xfrm>
            <a:off x="1822320" y="3121200"/>
            <a:ext cx="701640" cy="695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C:\Users\Stoli.Stoli-PC\AppData\Local\Microsoft\Windows\Temporary Internet Files\Content.IE5\FK67HN5B\MCj04415020000[1].png"/>
          <p:cNvPicPr/>
          <p:nvPr/>
        </p:nvPicPr>
        <p:blipFill>
          <a:blip r:embed="rId5"/>
          <a:stretch/>
        </p:blipFill>
        <p:spPr>
          <a:xfrm>
            <a:off x="1749600" y="227952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C:\Users\Stoli.Stoli-PC\Pictures\Microsoft Clip Organizer\j0441510.png"/>
          <p:cNvPicPr/>
          <p:nvPr/>
        </p:nvPicPr>
        <p:blipFill>
          <a:blip r:embed="rId6"/>
          <a:stretch/>
        </p:blipFill>
        <p:spPr>
          <a:xfrm>
            <a:off x="1749600" y="5407200"/>
            <a:ext cx="774360" cy="774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" descr="C:\Users\Stoli.Stoli-PC\Pictures\Microsoft Clip Organizer\j0442134.png"/>
          <p:cNvPicPr/>
          <p:nvPr/>
        </p:nvPicPr>
        <p:blipFill>
          <a:blip r:embed="rId7"/>
          <a:stretch/>
        </p:blipFill>
        <p:spPr>
          <a:xfrm>
            <a:off x="1749600" y="4645080"/>
            <a:ext cx="780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Mandy</cp:lastModifiedBy>
  <dcterms:modified xsi:type="dcterms:W3CDTF">2009-10-24T01:26:54Z</dcterms:modified>
  <cp:revision>88</cp:revision>
  <dc:subject/>
  <dc:title>Inquiry/research process the information literacy solution</dc:title>
</cp:coreProperties>
</file>