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E1EC-7F87-425B-9B87-53573D341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9F14-B9EB-4D3F-A609-7AA6CF8D7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205B-C7D4-4FDE-B1A2-BE2FA516B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AAC6-26EE-4736-BAA8-A78F863F4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DC92-0BD0-489A-AECD-6A004E9C2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45CE-618A-4F20-909B-1F5295BB5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2B2E-9C46-47A7-A1ED-37F1519BA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19D7-04F7-450F-BAA1-713829491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18B6-793C-4500-B9AC-CCBD2C1BB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064C-2F45-4BF8-AA69-19FDB2476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A64B-8C01-47C3-9554-E548BE1F0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1C82-D96C-4A23-A85D-74AC6CFD5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842A-707B-4DF9-9D85-1C494ACD1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ED33-F514-4432-8DA2-AA104835E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2411-40EC-4BEC-9FD2-D00FBCD2C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554B-151B-481A-B677-75F8D4B86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A7B8-192C-4672-B298-28FE76C07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10E3-76A8-4083-8A07-89AAED97A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84DD-DE88-4295-8D01-1E79A28F1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89B0-C2E3-41C7-95CD-BD0A96CA5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D85C-FB51-477F-9F88-0D9B3ADDA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AB31-0F6F-4876-8BAF-89D10DB81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5D4B-6713-4BEA-B6C3-B96EBEE5F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23CA-F1E4-4D2E-BFE2-98D4EB916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874C-E7D9-4452-A9B8-C4125825E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nged the graphic because the Big 6 isn’t really a cycle and it doesn’t have to be linear, so I chose not to use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FEC3-0791-486B-8C1C-27D8E1FE9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9AFC-40BE-40B7-A1A1-FD69ED1D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FE21-A0F5-40FF-9D1E-6A7F34B0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4A68-3A92-4032-B8CC-479F299C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5592-050E-4FA5-A244-8922B3F8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E2B3-FD25-4B8F-A9C7-78AAE425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2888-E521-441C-9CB4-8251328D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A2A3-80F8-4F88-9473-D47CD68D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02A5-714E-4C63-983E-50E30257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B6CD-A951-4788-BBAE-31672274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1FB2-3629-4D47-A132-5C3A18ED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B7C1-94F8-4947-8ACB-7B750978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47E2-DF5E-493F-A4AC-FC655CF5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0097-461C-4DC5-B3F0-711A86B9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9D52-1D9E-4B2B-9590-9BAE0A29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615B-02D2-4592-AA14-590C0C16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3FD8-A292-40D0-AF79-AE16D840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7B27-82EA-4151-9CFC-6BDF0699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4EF01-65F8-4A7A-A25E-95B13AE3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E3380-BC5E-4B4B-A3C9-828F932B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CCC99-D455-4176-B744-81DA238C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E275D3-6DBA-4AA9-826A-89890C53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E36A9-3F97-4BE5-A786-20449429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BC59-0F53-4B12-A9B7-DD01F50B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537BD-FCA9-47EB-91D9-B414EB83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7173C-67F3-4F53-B26F-720C5AF9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A74B1-FF92-4E62-B604-921A879B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FFAA3-6BA4-41C3-B625-C049D7D3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1B72F6-D179-46BF-A788-0FD769B9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B237E3-D18A-4DEB-9DB3-4191729A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D36701-6D40-44F6-B22A-AE4525FE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163329-C32F-4CFC-B19B-CAC58942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C65117-4290-455F-99C4-CBDFF8E8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8D5296-BD86-410B-8323-226C213F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011F-9893-450E-AFBB-89A32519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260A27-5F24-47BF-9022-1C1AA1DC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BFE85B-D53A-4C42-9CE1-87F282A7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FAB710-0AF6-43FD-8851-07A3D3BC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464F6F-687B-4C94-87CA-87D45DC8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EE8A61-5389-4603-B000-372B0488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828811-24B1-416A-8F2D-F6C4384E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3AABC0-125D-4BA7-8AFC-01E95856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92C952-2C2C-49FD-9F2C-AAAF61B0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33EFF7-0111-4B1A-9384-D7EB2796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873C74-75CA-445F-A0AE-19FDB7E2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030A-ABD3-4BC6-A634-6E802BCE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D2A8B7-D60E-4F45-978A-003B6A4B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79A4F8-38D3-4644-9DB0-F066A209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1F18AB-7BD7-48AE-801C-682AF8D2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E0F845-EAA2-43CB-AF04-9546321E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9CF94-D137-4561-897E-625D0E50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7CC2BF-1824-49F1-879B-37AC3CB6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7FD282-1887-43C4-912F-F6D44D36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4B0A68-0BE1-4B18-9DC2-B0014371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44F280-F4B2-426B-B6AA-48E69827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E4D3D-B808-4523-A6E5-410DCACA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41F0-3ABC-43E2-9B2E-4C671DEF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3BF165-0990-47C1-9232-4F0A2B3C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17A3C-5CD6-49EF-8224-55144DD7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00725-32FA-4737-8E5F-C31EB79B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106D5-6A57-4E85-BFF1-1E28FE43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BFC35-694E-4C9F-AC68-FC3855A8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BD6F4-9CE7-45C6-971F-5E782A4B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498BD-9B27-42CD-8F2E-F9B845A7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9331A-7256-4CEB-9B20-40752D17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33198-6FBF-4DF6-BB2E-010A251E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CC259-1283-462B-8B05-41F776E4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0A0A-2B12-442F-852F-3063ABFE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FCAF5-9BD9-4686-BFFC-8CC236D6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8941F-96EF-4043-87AD-1D8F7BCF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AC854-B0CE-456F-8B72-74231DEB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512D8C-F5C3-41BA-AFF6-7456EA58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613A06-1346-42A8-B4D3-5D585118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DA4CD1-DFDB-4A66-8114-2021212A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48623F-CEDB-425E-B5E2-C20AF2BC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B6E62C-1E76-47BF-B08D-6AE5AAAC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4DEE8B-D892-4D27-9D0E-886E7C30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632B28-9D27-4DD2-A817-F7752C6A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A939-63DF-4FC8-8805-409F3BC5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6321C9-FF47-40A8-906E-F4AB1D17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D17AAE-681A-47E7-8F9B-ECA44A8D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C7B13B-6E70-499D-9562-8667E0B3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64457A-E85A-45DD-8247-7D4C69BF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28ABA8-9899-4369-B2C6-65FC67DD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BCAD8-41E8-4B32-982A-999BE347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27D32-D5CF-4B55-9CD7-93921931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A247E-E440-49AE-B902-C49B89E4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8F63C-A328-4C49-9BD7-FFCE140C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EB16C-F691-4CE6-898E-1A6C034B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37C3-D52B-40E1-B9E8-9958286C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6C741-19B8-420E-BD8D-C105764A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70C09-A2C7-4C8D-B2CC-8ADB3AA9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836C5-7368-4810-BD0E-321FDED3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C7B50-4938-4F31-A64D-38F3D212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C8380-562E-46BC-BA5D-8CCC2A07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702E0-87CA-4C91-BB95-65BEECE7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25C12-F7E7-4254-9ABC-28584BA5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6BDB-DB15-407D-833F-5DB5F1F95F9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D348-03F6-4F95-91B7-194ADF8E4915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F168-DDBC-4819-A31F-8F164BC10277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1085-800C-4111-94EE-ADE44AF36E8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53A4-8F04-4D46-AFDE-FB4F07C1E99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E478-B81A-49CA-BE8B-A6AC74A3DC79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3188-4A48-4686-A401-42B39923D362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25DA-33F5-4B3E-AE37-4769187476B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ig6.com/2006/12/10/sing-a-song-of-research-turning-the-big6-into-a-tune/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ig6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ddc3"/>
                </a:solidFill>
                <a:latin typeface="Tw Cen MT"/>
              </a:rPr>
              <a:t>BIG 6:</a:t>
            </a:r>
            <a:br>
              <a:rPr sz="96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YOUR INFORMATION LITERACY SOLUTION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andy Dempsey and Kathryn Stephenso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1: Task Defini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fine the Information Problem (What is the task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Identify the Information Needed (What types of information do I ne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ask Defini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y teacher assigned a project on a famous Texan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s the task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hoose a famous Texan from my teacher’s list to report on: Lady Bird Johns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do I ne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asic information: birthday, family, care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hy she’s important to the state of Texas/her accomplishm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2: 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Information Seeking Strategi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termine all possible sources (What are the possible sources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elect the best sources (Which sources are the best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Information Seeking Strategies Exampl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are the possible sources to find information on Lady Bird Johns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arch on Google for information, Use an online database (Encyclopedia Britannica, net Trekker), Encyclopedia, Books on Texas or Lady Bird hersel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ich sources are the best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Google brings up way too much information and I can get the same information on the online encyclopedia as the book for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tart with books about her and then use the internet databases to find mor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3: Location and Ac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Locate sources (Where is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Find information within sources (Where is the information within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ocation and Acces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chool library has 3 books on Lady Bird Johns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an access the online databases from my classroom or at hom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the information within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books are all about her, so I’ll use the index and table of contents to find the information I nee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earch each database for her name and then click on the articles that are relevant. Then, I’ll need to skim and read them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4: Use of Inform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ngage (e.g. read, hear, view, touch) (How can I best use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xtract relevant information (What information in each source is useful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e of Inform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05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best use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use the table of contents of the books to find the most important information first. Then, I’ll read the shorter books completely to get more informa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read the articles found through the databases. I might have to skim first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in each source is useful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found the basic information in the books, but one of them was just about her accomplishments as first lady of Texas and the wildflower project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ome database articles were more of the same and some were more in depth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Synthe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Organize from multiple sources (How can I organize my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Present the Information (How can I present the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ynthesi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organize my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typing up my notes on a word document, organized into categories: basic information, the wildflower project, here career, first lady experien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present the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going to make a timeline of her life on a poster board and a time capsule in a shoe box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Information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“…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Young children tackle tasks, make decisions, and solve problems on an academic and personal level every day” (Robinson10).  As they do so, they are constantly being bombarded with information from a variety of sources. If we expect them to be successful in school and become productive members of society, we need to teach them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information literacy skills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 help them be effective life-long learner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4" descr="C:\Users\Mandy\AppData\Local\Microsoft\Windows\Temporary Internet Files\Content.IE5\I33D4CIP\MCj02997510000[1].wmf"/>
          <p:cNvPicPr/>
          <p:nvPr/>
        </p:nvPicPr>
        <p:blipFill>
          <a:blip r:embed="rId1"/>
          <a:stretch/>
        </p:blipFill>
        <p:spPr>
          <a:xfrm>
            <a:off x="6858000" y="4924440"/>
            <a:ext cx="20574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duct-effectiveness (Is the task completed/Did I do what was requir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cess-efficiency (How can I do things better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valu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id I complete the task and do what was requir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ompleted the project on time included important information without giving every detail of her lif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do things better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think I did a pretty good job. Typing on a word document and going back and forth between windows was a bit slow for me. Maybe next time I can organize my notes on index card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tegration into Curricul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Mat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as a problem solving strateg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Language Art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research for presentations or solve characters’ problem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cience: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The Big 6 as a guide in experimen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ocial Studi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find a proposed solution to a cultural or social problem, as well as to gather information on historical event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a teacher, you have many information gathering models to choose from. Although the Big6 may not be completely different than other models, the advantages ar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ear language that students can understan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sy to follow step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amount of support available on the Big6 website and all over the internet to assist in integrating it into your curriculu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75f55"/>
                </a:solidFill>
                <a:latin typeface="Tw Cen MT"/>
              </a:rPr>
              <a:t>Just For Fun</a:t>
            </a:r>
            <a:endParaRPr b="0" lang="en-US" sz="8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ers, engage your students before you begin with the Big 6 song!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/2006/12/10/sing-a-song-of-research-turning-the-big6-into-a-tune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2" name="Picture 2" descr="C:\Users\Mandy\AppData\Local\Microsoft\Windows\Temporary Internet Files\Content.IE5\I33D4CIP\MCj02327280000[1].wmf"/>
          <p:cNvPicPr/>
          <p:nvPr/>
        </p:nvPicPr>
        <p:blipFill>
          <a:blip r:embed="rId2"/>
          <a:stretch/>
        </p:blipFill>
        <p:spPr>
          <a:xfrm>
            <a:off x="3733920" y="3276720"/>
            <a:ext cx="162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rks Cit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AT&amp;T Knowledge Network Explorer: Nuts and Bolts of Big6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AT&amp;T Knowledge Network Explorer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Homempag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&lt;http://www.kn.pacbell.com/wired/big6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Berkowitz, Robert E. and Mike Eisenberg.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The Big6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Big 6, 2009. Web. 18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big6.com&gt;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 Six Steps- CRLS Research Guid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Basic Steps to Creating a Research Project- CRLS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Research Guid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crlsresearchguide.org/Big_Six_Steps.asp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6 Super3 templat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Instructional Technology Media Center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205.213.162.11/project_big6/super3/super3.htm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Eisenberg, Michael. "It's All About Learning: Ensuring That Students Are Effective Users of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nformation on Standardized Tests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y Management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6th ed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lumbus: Linworth Books, 2007. Print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Hughes, Sandra. “The Big6 as a Strategy for Student Research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ies in Canada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2.4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(2003):28. 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Robinson, Laura Eisenberg. “Early Learners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Library Media Connection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7.2 (2008): 10-11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Information Literacy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stated in the Information Literacy Competency Standards for Higher Education, “Information literacy is a set of abilities requiring individuals to ‘recognize when information is needed and have the ability to locate, evaluate, and use effectively the needed information”(Robinson 10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formation literacy instruction needs to begin with our youngest learners…” (Robinson 10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Big 6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ig 6 i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n information literacy curriculum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n information problem-solving process that can be used in all areas of lif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 set of skills which provide a strategy for effectively and efficiently meeting information need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Nuts and Bolts of Big6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Why Should Teachers Use Big 6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uses a multi-level approach so students can develop competency in information problem-solving and decision-making that will carry forward into lifelong, useable skills (Nuts and Bolts of Big6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integrates information search and use skills along with technology tools in a systematic process to find, use, apply, and evaluate information for specific needs and tasks (Robinson 11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skills are not taught in isolation, but within context, current curriculum, and everyday experiences (Robinson 11)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can be applied as a thinking process to deal with most problems and therefore can be applied consistently and repeatedly throughout the learning program, thereby increasing a student’s chances of learning it (Hughes 28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Student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arn transferable planning and organizing skills they will be able to apply for a lifeti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nd, sort, and apply relevant, credible information to creatively solve a proble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pare a solution based on reliable information, and give proper credit to information sour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chieve results using any individual learning style; Students will consider if their current style and approach works well for problem sol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nderstand general problem-solving concepts and then refine each skill to learn and perfect specific detai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(Big6.com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Teacher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dapta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Your current units and lessons can be framed within the Big6 context. Big6 compliments standards-based curriculum, and has terminology to fit student learning in grades K-12 and beyon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lexi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Emphasize one Big6 skill or all Big6 skills throughout a school year, based on needs in your school, time and resources available, and library/classroom partnership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ollaboration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facilitates communication among administrators, classroom teachers, and teacher-librarians. The Big6 is useful when you need to coordinate cross-curricular projec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raining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Trainers are professional, in-school educators. Big6 workshops are tailored to meet your local needs, and the Big6.com website resources provide ongoing suppor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(Big6.com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pport for teaching Big 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80880" y="1447920"/>
            <a:ext cx="8385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 advantage to the Big6 is that there is a vast array of teaching support and staff development found at 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includ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Big6 in all content areas such as Language Arts, Math, Music, Science, Social Studies, and Special Nee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ee resources such as graphic organizers, note taking, activity pages, and mor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formation on workshops, grants for training, and webina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ig 6 site for kids to help them understand the process furth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ig 6 Pro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5" name="Content Placeholder 3" descr=""/>
          <p:cNvPicPr/>
          <p:nvPr/>
        </p:nvPicPr>
        <p:blipFill>
          <a:blip r:embed="rId1"/>
          <a:stretch/>
        </p:blipFill>
        <p:spPr>
          <a:xfrm>
            <a:off x="609480" y="1573200"/>
            <a:ext cx="8163000" cy="45417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C:\Users\Stoli.Stoli-PC\AppData\Local\Microsoft\Windows\Temporary Internet Files\Content.IE5\VTJZVI1Y\MCj04414980000[1].png"/>
          <p:cNvPicPr/>
          <p:nvPr/>
        </p:nvPicPr>
        <p:blipFill>
          <a:blip r:embed="rId2"/>
          <a:stretch/>
        </p:blipFill>
        <p:spPr>
          <a:xfrm>
            <a:off x="1749600" y="151776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C:\Users\Stoli.Stoli-PC\AppData\Local\Microsoft\Windows\Temporary Internet Files\Content.IE5\VTJZVI1Y\MCj04421290000[1].png"/>
          <p:cNvPicPr/>
          <p:nvPr/>
        </p:nvPicPr>
        <p:blipFill>
          <a:blip r:embed="rId3"/>
          <a:stretch/>
        </p:blipFill>
        <p:spPr>
          <a:xfrm>
            <a:off x="1749600" y="3882960"/>
            <a:ext cx="774360" cy="768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C:\Users\Stoli.Stoli-PC\AppData\Local\Microsoft\Windows\Temporary Internet Files\Content.IE5\VTJZVI1Y\MMAG00146_0000[1].gif"/>
          <p:cNvPicPr/>
          <p:nvPr/>
        </p:nvPicPr>
        <p:blipFill>
          <a:blip r:embed="rId4"/>
          <a:stretch/>
        </p:blipFill>
        <p:spPr>
          <a:xfrm>
            <a:off x="1822320" y="3121200"/>
            <a:ext cx="701640" cy="6951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C:\Users\Stoli.Stoli-PC\AppData\Local\Microsoft\Windows\Temporary Internet Files\Content.IE5\FK67HN5B\MCj04415020000[1].png"/>
          <p:cNvPicPr/>
          <p:nvPr/>
        </p:nvPicPr>
        <p:blipFill>
          <a:blip r:embed="rId5"/>
          <a:stretch/>
        </p:blipFill>
        <p:spPr>
          <a:xfrm>
            <a:off x="1749600" y="227952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C:\Users\Stoli.Stoli-PC\Pictures\Microsoft Clip Organizer\j0441510.png"/>
          <p:cNvPicPr/>
          <p:nvPr/>
        </p:nvPicPr>
        <p:blipFill>
          <a:blip r:embed="rId6"/>
          <a:stretch/>
        </p:blipFill>
        <p:spPr>
          <a:xfrm>
            <a:off x="1749600" y="5407200"/>
            <a:ext cx="774360" cy="774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9" descr="C:\Users\Stoli.Stoli-PC\Pictures\Microsoft Clip Organizer\j0442134.png"/>
          <p:cNvPicPr/>
          <p:nvPr/>
        </p:nvPicPr>
        <p:blipFill>
          <a:blip r:embed="rId7"/>
          <a:stretch/>
        </p:blipFill>
        <p:spPr>
          <a:xfrm>
            <a:off x="1749600" y="4645080"/>
            <a:ext cx="7808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0:57:56Z</dcterms:created>
  <dc:creator>Stoli</dc:creator>
  <dc:description/>
  <dc:language>en-US</dc:language>
  <cp:lastModifiedBy>Mandy</cp:lastModifiedBy>
  <dcterms:modified xsi:type="dcterms:W3CDTF">2009-10-24T01:26:54Z</dcterms:modified>
  <cp:revision>88</cp:revision>
  <dc:subject/>
  <dc:title>Inquiry/research process the information literacy solution</dc:title>
</cp:coreProperties>
</file>