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E112-FB50-42E7-9706-EFC2AC802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E123-CA09-4A5B-ABCA-744DFD9E2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21F2-3898-4015-B214-D6E9FD52D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5EE3-F0EA-4F87-ABBA-4DD58EA27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FF67-0F46-4614-82A9-D8082FD1F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F8A6-52F0-4060-B25F-5116C534D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55E8-7DD1-4739-892B-ABE8A559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A07B-DC82-44D1-96BA-B3F18A8D8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304F-BC4C-403C-8BB4-35C10F732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FAAF-892D-4CE7-8F37-EA77593CD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A4AD-7875-4ED1-8E33-3A03A127A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5A9-06FF-496D-862F-BFA2F06A9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D141-B6EF-46B5-B7B2-C00D2243F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96F1-F945-4868-B0A7-34A06611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2FEB-541A-4A9C-B528-D5E08FB59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AA20-9723-4755-BDF9-121B72629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BAB2-8AD4-4394-ACEA-E3509295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CE64-3BA6-4DB3-A4F4-EC90933BE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C6FA-70B8-4A19-9863-2545CD1B1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22FF-C7F0-41CC-A110-DD529F9AC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508F-331B-453B-810C-BA65DEDAE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7D04-ED70-4A2D-88AA-169731FB4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E3DB-BBC6-4497-8EC8-CD1968FAD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CB0B-69E3-4771-9CC6-DAC232D94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0FCF-6C31-4591-918D-4D7597CEC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4EFE-0488-43C2-A1C9-B0C293584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796-F8A8-4664-BD11-D88B815D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E68-1F32-4590-B300-368D7E5D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93D-929B-4323-81A6-16897516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D10-CBB6-4CD6-A12D-5456EED7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D431-0694-4380-A7D5-4CFB56C7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14AB-F693-483F-A301-2472FD19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EEAF-6D26-4649-B8A6-4838783C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B8E2-E082-4183-A27A-69F54357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4752-729E-4138-A648-66AEB22C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F40C-C725-4169-A442-2C526685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DACC-3FD0-4011-A15D-FC4B980F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09A-3F18-422B-964E-ED4E7704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6D69-2EFE-4272-8254-302B5039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C0A6-19FE-4FE7-A993-4710F366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EC74-0986-4D6D-995B-668E7F17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2C2B-E80F-4749-84B8-6438A705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A949-D873-4939-89DD-F34D480E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23B31-1E14-4728-A5B9-3F8C62CA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0375D-3BCF-4AB8-8B2B-36153ADB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98782-BCB9-454E-9126-F5D5E5C1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01BC3-4E2F-427B-99A6-F6BAABAC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4F606-8DD3-4196-B09D-9C6B9EC4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298-BDD8-44C6-97C9-DDB24306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16DB1-F397-4E9F-819A-C41AC61C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CEBB7-8F17-4C28-9D18-B72731E0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9CA4F-644C-4FF2-A29C-7268BCC0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21B00-DD21-45BB-9FA9-30D0B868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BE48F-29C3-477D-AE81-92C058CE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C6B20-8E06-4E7D-BEFA-BA41C050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439EE-7E88-481A-82EA-7CFAC031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A788D-1DB8-40B4-8E17-07BC2551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15723-2BE1-4255-AE86-589D7A1E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33F82-0E39-4D66-A600-7A9C95E9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164-2513-4BF9-846E-BD9D8F41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8B1BF-272D-40FB-BB82-672F001E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D7262-D111-4C3E-9778-CB8715B4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A28D4-0161-4EC3-ACCE-1279DC30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076BB-3A05-4BB9-977E-E1B1CB7B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24E2F-02B9-499C-8FA5-69AE6F8A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ACE6C-F0E5-4B1E-B685-62B593C0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7BA4D-1ADB-42B6-9926-A15873DC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D5F80-D715-4F17-9F45-7F5C0412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AE5A0-9902-4479-BE0F-26EAD567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13E49-D25D-473D-8B5A-5B836B4B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AA4-FF91-4236-944F-04E3F9FC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ED6024-826E-4459-A86F-B0408E72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88835-357A-461B-B5E4-7B841911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0855D-274A-4CDD-9BE5-85091864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16417-C3F3-4002-8CD5-63D7A2A8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FACF7-72AD-4ABE-9F34-EEB6BD87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790ED-8E89-445E-B746-2858B758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C5CAF-25B3-496F-AF85-0AB5A9DB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06EB8-86FA-4E86-A51C-85D1164D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D3AC9-D5B8-4FF3-8BEB-E2D5274A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5262E-032E-408E-AE9F-49BA55C3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3F1-7CC4-4D20-AE28-D5EC6627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F2902-944D-4329-97EF-414D2634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6D6C8-A44C-425B-AE2E-AE4BC481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3A14D-62D9-4342-913D-F6D8B88B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A3377-91A8-4082-A631-038AEC3D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D3324-375D-419A-AA5A-65BB87E8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0559B-335C-4316-95A8-3A85867F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A09C2-A496-4DF6-9244-746EA7B6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30A1-307B-44F1-A773-25932E3B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C9C7F-BCE8-48EA-94DE-78B31282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B3A6-B733-4EEF-919C-69E6D4A2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A4E-8195-46F5-8249-7FDA50A5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E6338-EF9E-4AA5-9CEB-92F38C39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6F06A-F617-4033-B598-A1D94099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2771E-0876-4137-A6A0-075782C9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749107-7679-4E43-BF02-4ABAD0CD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E638C-9710-466E-9EF1-6D1005D2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C5AB8-BDB2-40C0-8691-50F07F7C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122B3-7B82-47B7-BDAB-AF25C8C2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A145A-A9C7-4540-8D5D-51E8F70B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0EBBF-963E-4A28-A5AF-D0064DEC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AAF60-3A4F-43BA-96C8-E7EDF869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DA7-93B9-4514-B49B-3D450617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A2016-0BB8-499E-AE96-BA1F7173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A1A21-12AA-4A70-8637-E249F5A5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BBEF3-8C57-404B-90BD-5A76ED50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3BC3B-D572-46FC-9E42-C2982378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075B0-4897-4165-835B-5C04879E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C7A0-D662-4DAB-9679-646D0E72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FB2A-8E63-4DF9-AD9C-FD73A159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6C00C-26A7-4226-837B-010EC1C4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F6F90-79D9-4E87-A19A-DD8762A1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1B006-F7CC-4DA7-AA06-C2EB8D00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99C-2ED1-4EC6-B54F-EDC4C8AF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4F7A9-6352-4CDF-8E15-3FAED855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F9958-4A01-4AFC-BFCA-7EF6BA0C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A59CC-4786-4689-B5B6-54C60B6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C531D-CCBA-4523-B816-3E633AE7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AE1E3-D63D-465A-AB04-B220CCF2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05FF3-F33C-4159-80AF-EFDB7B56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A5B55-912B-406A-A5FC-C1D529E9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2486-E573-4683-8B31-EB5058D2F7A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BBA6-8DE2-4DC6-9E83-6DC87527F8C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3C0A-8D57-40C0-B6E0-FBC5DCEDC2FF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09F0-459C-46DD-B476-6D2602E3245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56F8-29A8-41CC-A9FF-6A414FE9131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4BB8-A5CC-4A5D-A693-234DA7F1F1D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1B0F-96CB-47B6-B718-76BDFF09D69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412E-3765-459D-917C-B2023BF803A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AT&amp;T Knowledge Network Explorer: 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Homem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formation on 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lumbus: 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2003):28. 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Nuts and Bolts of Big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hy Should Teachers Use Big 6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 (Nuts and Bolts of Big6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 (Robinson 1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 (Robinson 11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 (Hughes 2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5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3200"/>
            <a:ext cx="8163000" cy="4541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4T01:26:54Z</dcterms:modified>
  <cp:revision>88</cp:revision>
  <dc:subject/>
  <dc:title>Inquiry/research process the information literacy solution</dc:title>
</cp:coreProperties>
</file>