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8D09-3744-4725-9606-A643C4298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B8B-4A69-4057-9C5B-4116CD81F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9B75-FC2C-4B05-8801-69A2E0F6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4D63-1419-40B0-9040-11F07DA71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B504-2F38-4EBF-8028-E33C6B5B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41E3-9FCA-43F8-95D6-BD52F751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F63-A964-4F14-8A90-52EA9793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978-CC4B-43B1-8AA8-9C7AF440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D6D-3E62-4138-B622-C774E400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CD4-3EC1-427F-BD6A-0B9FA33F1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76E-33CF-4FDB-A522-74631BDC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518-B00A-4DA5-8986-35527C00C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3F2-7656-4C44-B28F-7B9378C9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3698-B537-4FD2-BF4F-48CBE1CC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7B02-01C6-4E17-9AEF-AD365119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D358-64B1-4B9F-8317-6AB784F2A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10A3-3925-400C-829F-ABF1BC0A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5D4-EF60-47F8-A093-727410D3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224-6674-4AE9-A953-4F3C9E09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A85-888C-41FB-9140-AB3E24A6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D94-57E1-44F5-8412-05D93FC2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F80-630E-402C-B531-3B8BBBA8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1B40-D347-4739-9C13-0D0037B93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601-601D-4FF1-A934-7715A00D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B91-B173-4E40-BBE8-B2D3F18A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186-F1E7-4EFE-8435-FED41939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41DF-2C51-427A-B9C7-4920272A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712-440D-41B5-8484-B26A3355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718-AC76-4D6C-8DA2-20D8BB42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B84-27E1-49FE-84B4-680A9191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F3A-7E02-4392-9FFB-ED83C6A8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B40-B0A2-453C-B2F9-90E86738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0B3-C621-4FB5-A4F2-59D8584D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77CD-5D8A-482D-A50C-03EC02F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DB63-762B-4592-AD28-0267593E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E5F4-6AF3-4689-8438-283980BB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7AF-C567-40B7-98E3-E9A7466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D1E1-C841-4295-918A-4A74F5FF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0A26-E2E4-451B-9E6B-9A29985A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5B2-686D-4048-8E74-BC6A6801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ECB-A6B5-4ED9-AB93-A33363E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005-321B-4BA4-BE78-F918A5B3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C569-E808-4EBB-A1D1-B808A114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E83-BDF3-4BE3-AE71-CA6DB831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73D-5BAB-4618-9F62-22618F61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C3F2D-A045-4614-AAF6-15D8C303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65E16-DBDD-4D4D-836B-F3C1482F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8C3B7-2153-4A88-B01A-B1CCBADC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B2DE8-F13F-43C7-AB56-03709F8D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7556D-958D-440A-8A31-42859EDA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27BA-0BA0-45E9-9047-A4DFE01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2AAFA-8EDA-4518-BAC4-3AAFDCAF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96A69-7260-472A-80A1-3DAB449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83D65-B00D-4822-A706-DAC2E176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40224-A173-4011-BCFE-40BA4D9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FEE77-A509-4453-B496-CE0FE01B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ED4FE-86DD-4D30-9ADE-68646768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B572E-C958-4B80-9400-316B82BF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A936E-9B14-411E-8C0B-FB5D214C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7CE31-722F-44D7-8F47-9B68D0E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0A6EF-B34F-4059-BE12-F65E4CC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803-9FA0-4CC7-90F7-3A4F077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891F9-CA8A-4244-B0F9-98B26F2A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522F7-E535-4851-8652-7C36A366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A2909-A139-4535-AA89-6E8E390B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930B0-913F-426B-AEC9-B1502D5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871C0-BFB2-4F88-B088-ECC3C60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99810-4CCF-46E1-ACE8-E74C8B3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51D21-F612-46AD-ABF8-F9392AF0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9F4C5-E7AF-4A4A-9795-DD0B391E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36DE9-C3E0-4063-881F-656C0B92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C835B-6079-4D23-A5D0-3B2C5C82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A28-98CE-4FBB-AC6A-2E4B9BF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AE681-BE35-475B-815A-6E2D58E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D3877-7E9B-47F4-BE04-C071AD7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ED5AA-E110-4B71-9B35-217077C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56386-8140-4B81-8516-AB4D40D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4A0AC-1027-4F0C-82BD-0138C42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07979-7253-4362-A5FB-D77BF41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F5A8E-3C82-4257-808A-E3BAFF2F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48930-82A1-4BED-984F-A504BE5B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6023D-2BBE-44B3-A7B6-959026F7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3DA30-0C26-4D5D-9F57-3A8B140C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798-E7B5-441F-BDBF-041D2C3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F5CE3-0DA4-427C-8AC4-CF9B3148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C1B2-F0F2-460A-BD6C-A44559BA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390A0-9B19-4E26-BEFA-39278F3D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3C1D-B121-4870-9DB5-AD412CCC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B782-6E5C-4965-8F93-4DDBFD5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D8AF-CA3D-4CC2-957A-532BF21E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979C-8F5D-424F-861E-6C6BEFD5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362D-5E33-4C46-A40A-278FC99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B5A30-AE96-4D84-AFAE-E5A12C72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555D1-9106-4FC1-B1AD-F23F25D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6F5-0689-4649-884E-46E5087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7AC6-CA66-44C6-A27E-ABCF41BB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5127-DEC6-47A1-88B5-188F752A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D84DE-D747-4A32-BE45-6C1C289D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3D66C-E5A3-4EEC-8402-DCBF9642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020EB-C8E4-446F-A340-423D80DC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E1792-EF0D-4DB8-A457-BF37ACAA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3E4DC-B343-40C7-9145-109D8737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D20CD-E4EC-4DE9-B461-737435E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01AD0-91C6-4C88-AECA-4409D18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589F6-DB56-4752-A1F2-FF3FA09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1C4-889B-4C9E-A46C-DD2B659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E932F-B195-4BAD-8BDA-1B4BAC4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C26AA-4E71-41D0-89EA-C880BAF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E3A48-4DD2-446D-B369-CD370C28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40B63-D347-4237-87A7-B4A0B289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A4EC2-CC5F-4585-BE06-12152F5D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249EE-F781-46DF-B478-8747D620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1D7B-BAFD-480D-ACF6-1A9D8506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3836-A277-4450-9EA0-AF3CA82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1596-BB47-417E-A80A-78806374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9115E-F728-4931-A92B-E2C97F0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DB1-9003-4D8C-9E9A-B37C0CC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F09D1-E292-4ABB-912D-CED119CF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9AC1-DD5D-436D-BBEB-E81D6CE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16BA4-51FD-42BB-AD09-E68D15E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783A7-7371-4CF1-8CE5-98AC284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C9CA2-8D37-4BEE-96AD-4FD31AA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CAFB-126E-4A8A-9EAD-6384E9CB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7A64C-08C2-4D7D-A437-342A72F4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35C9-798F-4CFE-A1A5-BD22EFA527D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E1E3-F119-43B0-BA73-AD8C9948402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A43-E058-400B-816D-E995A5EBECF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5D6-3F0D-4802-A19E-F712AC3F95C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670-3C3A-49C5-B5DF-51E94D3F249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F9F9-BA4A-437F-B5CB-85769EE43B3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2CF-C2B2-4B07-BB2D-E7A21236DD3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596-FD7A-4CF5-92B0-1F17240975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44:25Z</dcterms:modified>
  <cp:revision>101</cp:revision>
  <dc:subject/>
  <dc:title>Inquiry/research process the information literacy solution</dc:title>
</cp:coreProperties>
</file>