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F337-3DB5-48DC-9CFF-6A3BDD900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FF6F-0D02-442B-B41A-CCD8FD58E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6F0F-FD86-474D-BC2D-0A64796CC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nged the graphic because the Big 6 isn’t really a cycle and it doesn’t have to be linear, so I chose not to use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3799-E84D-45B2-ACDF-9B0CBB21F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03C4-784D-4993-8589-9F8139B94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A052-4442-4B8A-82B1-AD1DAD9A4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9AA7-4DDB-4AE9-9614-02D12F795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1678-1420-49EF-8080-C201182FB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E665-E07B-4A27-8B70-D69832E73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3F15-51BE-4C9F-A408-53BF3EEEB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43A1-F17D-41FC-9F69-AD1F7448C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4B95-C8D4-498A-B69C-FCC938754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ABC8-375C-4B6D-BEB6-074FF861A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85EF-90AE-45E3-8F11-9F9C9D78A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C6B1-9621-4F58-93F3-950C07F5B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9C6B-9CAB-4B09-AE1C-B3CCD2F91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8A56-7727-460A-B298-080399C41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7274-4E03-41F0-A317-4892EFA09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3F9C-A83B-48E4-B350-016CAAC39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3773-1BCD-48EB-85FE-1109D0B87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DCE7-6896-42A1-BE20-7629C5757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FC87-2780-4C5F-A94F-84C7FEFD3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2EC8-E267-4544-A4F3-77CA953FE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A318-0F44-4A44-815B-FE8C9C222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5710-4089-40A2-8AA6-0FD03C449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6E4D-D7FE-4F81-973E-25CB1A750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8B96-EEF1-4B9E-A080-0ECA29F54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116F-E142-4374-B2A5-BE9A7B4C4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85BB-0912-420B-9E2F-28DF813C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950D-1CD2-4C24-8555-D7C67884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B2D4-ADDD-48DE-AAAD-5AAB7D04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3701-559F-41C7-87A8-128FE1C6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67CE-9101-4BB5-BB6E-2D474AF5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6CA1-3189-4607-ABED-05BF05DC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66EF-77E5-4158-A0C9-82A82272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81BF-528B-4E1D-8546-44D4E873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CCBB-A6C8-413B-8344-B92F35A4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DEFF-366C-45ED-8574-2C9C4A30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D72B-1252-4EE4-AE4D-086D8DD4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106E-548A-4E3F-A33C-CEA69AAA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7B43-3CA8-4D50-8D81-A8A10BA2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5CF2-CEB5-480A-BA48-79B71DA0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C122-A648-4401-B602-B2742FA1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5A47-9D9A-4175-89B2-CC6744B7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25F7-CAA2-4FFA-8374-F74E9951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73B83-58F9-41B2-B338-A803075D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9A683-DD19-47EB-BB26-C9FA726E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D38F3-EC4A-49E8-92C0-5213718E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D4C3E-4F89-4379-96C4-7BEE54D0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6C5CC-794B-4192-858A-E06B8F24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A8B-029A-4E98-A8D2-628908D1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A2B5E-EEF6-48EE-BD22-E58AB265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FA3AA-74E8-4ED1-99DE-D3A285C6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74784-6BEC-4CFF-85AB-99FD0AA3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B9432E-2AAB-4E6A-A52A-E9DA7D03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6B869-E32F-4839-BB8A-9272A584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59E7A-3BA2-4CE5-A7B5-B39ECC14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C82014-13B4-4469-B90D-FF0EA3E3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F32EA1-BB77-47B3-BCC5-DCF680F0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2BAFC7-8ED8-496F-807A-E682D5E1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B53DF-E3C5-4125-9B73-BBA2EFBF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3147-E070-4062-90ED-2856EA67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75D844-80ED-4177-B093-1EBAB94C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13343D-C0E7-4737-B0AA-7789C2A2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FB10F3-6089-40CE-ABE2-00ED9E42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3497A4-7570-4AA7-8C08-97592C7D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6C87D-2033-4878-A218-236471CC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89324E-0BB5-4A2E-89CD-0A4771F1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1268D5-0297-4286-A550-D11AA6D4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3B2DB9-0B0D-4B5E-BC20-9A5FB999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9484F5-7EB0-4DDD-AF1B-8974E16B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FF2861-B847-4B41-AB8C-876F23F1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C207-DB44-4245-AF01-302DED76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3C83D7-DFC2-4168-A7AC-D9F2C4F4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62F77-FE4C-48BC-90A1-1B98B883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71CE1C-CADE-4A69-96B4-041DFB72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9C4A5A-8869-43CA-9A0F-14268D11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1ED75E-C120-4A44-89C8-8056D33D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3E687-558F-4332-A683-C9237DAD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97C56A-22AF-4CE8-B974-4AB94313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22B224-04A5-430E-85A1-B0BF3E22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A0F345-953A-4190-B0EA-69451055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513ECF-14C4-4FF5-907D-4B125A0A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65F-5A29-4CEE-B541-72A226E8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949FF6-3525-4F33-866F-7C91D68B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CAFC7-CEB9-4739-AAD3-04B157DA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BF551-F65B-4168-9353-996F5208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A249A-41D1-4368-B52B-8B09AE9C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8F3BD-471D-4158-A0EB-7C8F0AEB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562D5-9706-4C34-A45A-8A4EC797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B8794-CF0F-448F-915C-29F0B1DD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2F9C8-4B37-4DD3-93A1-369B762B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964F6-D360-4533-93DB-51496E5F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A4930-8D52-46F8-8AE0-78FA7D5F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3D66-F3B6-4297-B219-DC9A6A5B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9579A-FEB8-46DB-B992-F045F3CC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397CA-CAB8-4115-9051-A87CC684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D0579-9487-4D9A-B39F-7FD50338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3F5174-1696-4EB2-8351-49F801D0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539259-B86F-4CD3-A697-0A8C1E2E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567248-0296-4C01-BF14-EC3C9CAC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192B20-381E-48C3-8987-CBC536E5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6F634B-8435-424C-AC80-9890ECBF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AE4816-9B6F-4413-A96A-85EAA769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E413FB-4A8E-4BBB-B4A8-0084D2D4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66A6-381B-4F9F-9B09-0E0569E3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B8391F-CEE6-4786-853B-C1F6E0E8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3BCD0B-5D13-47F5-A400-D05063E2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C60E39-7790-4E86-A6D6-C7739455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74394B-9EFD-4970-BC4C-EDAFD88E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1568AC-EF3F-41BF-84A3-9265B404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BC0D1-0D6A-4E7D-AB26-E49EE619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686D6-837C-4362-ABD5-AAF66F0A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F7F65-6679-4B7E-A567-D84C734F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D86EB-86FF-4291-8B0E-DE40881B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55CF7-75A2-41EA-84CC-CD90D89D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C73-3E4C-4922-83A6-5A385E57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EC848-4CCB-446A-B872-33F228AA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429D0-D0DF-4BF2-8246-22C508CB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3760A-D912-4C11-B3B3-4D94CD5A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43B13-33E3-496D-BEDC-1E04DAE8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DCFC5-7CCF-4310-9D77-8B13B542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48D15-02D3-4135-8BB6-E7A1239F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85A11-546B-41C3-B371-928E9308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BCB9-F0D9-476E-9D4C-2E7CF6891A8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B630-743A-4FBF-A2A9-C21E22D15228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ED2A-A955-4858-9F33-84AF3F085F55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5732-1640-4A6B-97B4-6E0B7C35CE1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4C7D-1AD5-4844-85C7-D45A1259888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5AC7-0B7C-42D4-A4F5-83BF462A16ED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6B47-7716-4529-8B71-FE085639F9FE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0C86-D972-4553-972C-874EBBB5911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g6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big6.com/2006/12/10/sing-a-song-of-research-turning-the-big6-into-a-tune/" TargetMode="Externa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YOUR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eaching Big 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880" y="1447920"/>
            <a:ext cx="8385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 advantage to the Big6 is that there is a vast array of teaching support and staff development found at 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includ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Big6 in all content areas such as Language Arts, Math, Music, Science, Social Studies, and Special Nee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ee resources such as graphic organizers, note taking, activity pages, and mo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formation on workshops, grants for training, and webina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ig 6 site for kids to help them understand the process furth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Pro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Content Placeholder 3" descr=""/>
          <p:cNvPicPr/>
          <p:nvPr/>
        </p:nvPicPr>
        <p:blipFill>
          <a:blip r:embed="rId1"/>
          <a:stretch/>
        </p:blipFill>
        <p:spPr>
          <a:xfrm>
            <a:off x="609480" y="1573200"/>
            <a:ext cx="8163000" cy="45417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Users\Stoli.Stoli-PC\AppData\Local\Microsoft\Windows\Temporary Internet Files\Content.IE5\VTJZVI1Y\MCj04414980000[1].png"/>
          <p:cNvPicPr/>
          <p:nvPr/>
        </p:nvPicPr>
        <p:blipFill>
          <a:blip r:embed="rId2"/>
          <a:stretch/>
        </p:blipFill>
        <p:spPr>
          <a:xfrm>
            <a:off x="1749600" y="151776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C:\Users\Stoli.Stoli-PC\AppData\Local\Microsoft\Windows\Temporary Internet Files\Content.IE5\VTJZVI1Y\MCj04421290000[1].png"/>
          <p:cNvPicPr/>
          <p:nvPr/>
        </p:nvPicPr>
        <p:blipFill>
          <a:blip r:embed="rId3"/>
          <a:stretch/>
        </p:blipFill>
        <p:spPr>
          <a:xfrm>
            <a:off x="1749600" y="3882960"/>
            <a:ext cx="774360" cy="768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C:\Users\Stoli.Stoli-PC\AppData\Local\Microsoft\Windows\Temporary Internet Files\Content.IE5\VTJZVI1Y\MMAG00146_0000[1].gif"/>
          <p:cNvPicPr/>
          <p:nvPr/>
        </p:nvPicPr>
        <p:blipFill>
          <a:blip r:embed="rId4"/>
          <a:stretch/>
        </p:blipFill>
        <p:spPr>
          <a:xfrm>
            <a:off x="1822320" y="3121200"/>
            <a:ext cx="701640" cy="695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C:\Users\Stoli.Stoli-PC\AppData\Local\Microsoft\Windows\Temporary Internet Files\Content.IE5\FK67HN5B\MCj04415020000[1].png"/>
          <p:cNvPicPr/>
          <p:nvPr/>
        </p:nvPicPr>
        <p:blipFill>
          <a:blip r:embed="rId5"/>
          <a:stretch/>
        </p:blipFill>
        <p:spPr>
          <a:xfrm>
            <a:off x="1749600" y="227952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C:\Users\Stoli.Stoli-PC\Pictures\Microsoft Clip Organizer\j0441510.png"/>
          <p:cNvPicPr/>
          <p:nvPr/>
        </p:nvPicPr>
        <p:blipFill>
          <a:blip r:embed="rId6"/>
          <a:stretch/>
        </p:blipFill>
        <p:spPr>
          <a:xfrm>
            <a:off x="1749600" y="5407200"/>
            <a:ext cx="774360" cy="774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C:\Users\Stoli.Stoli-PC\Pictures\Microsoft Clip Organizer\j0442134.png"/>
          <p:cNvPicPr/>
          <p:nvPr/>
        </p:nvPicPr>
        <p:blipFill>
          <a:blip r:embed="rId7"/>
          <a:stretch/>
        </p:blipFill>
        <p:spPr>
          <a:xfrm>
            <a:off x="1749600" y="4645080"/>
            <a:ext cx="7808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1: Task 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fine the Information Problem (What is the task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dentify the Information Needed (What types of information do I ne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ask Defini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y teacher assigned a project on a famous Texan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s the task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hoose a famous Texan from my teacher’s list to report on: Lady Bird Johns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do I ne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asic information: birthday, family, care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hy she’s important to the state of Texas/her accomplishm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2: </a:t>
            </a: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termine all possible sources (What are the possible sources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elect the best sources (Which sources are the best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1461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 Example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are the possible sources to find information on Lady Bird Johns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arch on Google for information, Use an online database (Encyclopedia Britannica, net Trekker), Encyclopedia, Books on Texas or Lady Bird hersel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ich sources are the best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Google brings up way too much information and I can get the same information on the online encyclopedia as the book for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tart with books about her and then use the internet databases to find mor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0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3: Location and Ac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Locate sources (Where is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Find information within sources (Where is the information within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302680" y="225360"/>
            <a:ext cx="6951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ocation and Acces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chool library has 3 books on Lady Bird Johns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an access the online databases from my classroom or at ho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the information within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books are all about her, so I’ll use the index and table of contents to find the information I ne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earch each database for her name and then click on the articles that are relevant. Then, I’ll need to skim and read them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150400" y="298440"/>
            <a:ext cx="6951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 Use of 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ngage (e.g. read, hear, view, touch) (How can I best use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xtract relevant information (What information in each source is useful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9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 of Inform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05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best use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use the table of contents of the books to find the most important information first. Then, I’ll read the shorter books completely to get more informa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read the articles found through the databases. I might have to skim first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in each source is useful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found the basic information in the books, but one of them was just about her accomplishments as first lady of Texas and the wildflower project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ome database articles were more of the same and some were more in depth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2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Information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…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ng children tackle tasks, make decisions, and solve problems on an academic and personal level every day” (Robinson10).  As they do so, they are constantly being bombarded with information from a variety of sources. If we expect them to be successful in school and become productive members of society, we need to teach them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information literacy skill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help them be effective life-long learner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4" descr="C:\Users\Mandy\AppData\Local\Microsoft\Windows\Temporary Internet Files\Content.IE5\I33D4CIP\MCj02997510000[1].wmf"/>
          <p:cNvPicPr/>
          <p:nvPr/>
        </p:nvPicPr>
        <p:blipFill>
          <a:blip r:embed="rId1"/>
          <a:stretch/>
        </p:blipFill>
        <p:spPr>
          <a:xfrm>
            <a:off x="6858000" y="4924440"/>
            <a:ext cx="2057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Synthe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Organize from multiple sources (How can I organize my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Present the Information (How can I present the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ynthesi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organize my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typing up my notes on a word document, organized into categories: basic information, the wildflower project, here career, first lady experie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present the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going to make a timeline of her life on a poster board and a time capsule in a shoe box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duct-effectiveness (Is the task completed/Did I do what was requir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cess-efficiency (How can I do things better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valu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id I complete the task and do what was requir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ompleted the project on time included important information without giving every detail of her lif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do things better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think I did a pretty good job. Typing on a word document and going back and forth between windows was a bit slow for me. Maybe next time I can organize my notes on index card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4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Ma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as a problem solving strateg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Language Art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research for presentations or solve characters’ problem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cience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The Big 6 as a guide in experime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ocial Studi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find a proposed solution to a cultural or social problem, as well as to gather information on historical event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teacher, you have many information gathering models to choose from. Although the Big6 may not be completely different than other models, the advantages ar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ear language that students can understan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sy to follow step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amount of support available on the Big6 website and all over the internet to assist in integrating it into your curriculu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75f55"/>
                </a:solidFill>
                <a:latin typeface="Tw Cen MT"/>
              </a:rPr>
              <a:t>Just For Fun</a:t>
            </a:r>
            <a:endParaRPr b="0" lang="en-US" sz="8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s, engage your students before you begin with the Big 6 song!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/2006/12/10/sing-a-song-of-research-turning-the-big6-into-a-tun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1" name="Picture 2" descr="C:\Users\Mandy\AppData\Local\Microsoft\Windows\Temporary Internet Files\Content.IE5\I33D4CIP\MCj02327280000[1].wmf"/>
          <p:cNvPicPr/>
          <p:nvPr/>
        </p:nvPicPr>
        <p:blipFill>
          <a:blip r:embed="rId2"/>
          <a:stretch/>
        </p:blipFill>
        <p:spPr>
          <a:xfrm>
            <a:off x="3733920" y="3276720"/>
            <a:ext cx="162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Nuts and Bolts of Big6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AT&amp;T Knowledge Network Explorer Homepag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kn.pacbell.com/wired/big6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erkowitz, Robert E. and Mike Eisenberg.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The Big6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Big 6, 2009. Web. 18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big6.com&gt;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 Six Steps- CRLS Research Guid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Basic Steps to Creating a Research Project- CRLS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Research Guid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crlsresearchguide.org/Big_Six_Steps.asp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6 Super3 templat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Instructional Technology Media Center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205.213.162.11/project_big6/super3/super3.htm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Eisenberg, Michael. "It's All About Learning: Ensuring That Students Are Effective Users of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nformation on Standardized Tests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y Management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6th ed. Columbus: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Linworth Books, 2007. Print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Hughes, Sandra. “The Big6 as a Strategy for Student Research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ies in Canada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2.4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(2003):28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obinson, Laura Eisenberg. “Early Learners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Library Media Connection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7.2 (2008): 10-11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All images courtesy of Microsoft Clip-Ar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Information Literacy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stated in the Information Literacy Competency Standards for Higher Education, “Information literacy is a set of abilities requiring individuals to ‘recognize when information is needed and have the ability to locate, evaluate, and use effectively the needed information”(Robinson 10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formation literacy instruction needs to begin with our youngest learners…” (Robinson 10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What’s a teacher to do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at method should YOU choos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8" descr="C:\Users\Mandy\AppData\Local\Microsoft\Windows\Temporary Internet Files\Content.IE5\I33D4CIP\MCj04114940000[1].wmf"/>
          <p:cNvPicPr/>
          <p:nvPr/>
        </p:nvPicPr>
        <p:blipFill>
          <a:blip r:embed="rId2"/>
          <a:stretch/>
        </p:blipFill>
        <p:spPr>
          <a:xfrm>
            <a:off x="2819520" y="914400"/>
            <a:ext cx="43988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Never Fear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w Cen MT"/>
              </a:rPr>
              <a:t>BIG 6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IS HERE!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5" descr="C:\Users\Stoli.Stoli-PC\AppData\Local\Microsoft\Windows\Temporary Internet Files\Content.IE5\8MJD2KME\MCj04418880000[1].wmf"/>
          <p:cNvPicPr/>
          <p:nvPr/>
        </p:nvPicPr>
        <p:blipFill>
          <a:blip r:embed="rId1"/>
          <a:stretch/>
        </p:blipFill>
        <p:spPr>
          <a:xfrm>
            <a:off x="3657600" y="4724280"/>
            <a:ext cx="226368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n information problem-solving process that can be used in all areas of lif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Nuts and Bolts of Big6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Why Should I Use Big 6?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” (Nuts and Bolts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” (Hughes 28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; Students will consider if their current style and approach works well for problem sol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big6.com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big6.com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Mandy</cp:lastModifiedBy>
  <dcterms:modified xsi:type="dcterms:W3CDTF">2009-10-24T01:44:25Z</dcterms:modified>
  <cp:revision>101</cp:revision>
  <dc:subject/>
  <dc:title>Inquiry/research process the information literacy solution</dc:title>
</cp:coreProperties>
</file>