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B4A2-E9B9-41BF-87A8-EDB77A4AE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4A67-DCC7-4095-8D8C-23661551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E562-728D-41B8-83CB-B5FD9692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55C3-1CFC-474D-B9CA-CADEE72D7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A61-C096-4DE7-B968-DC39B71D7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5995-6767-4404-A160-AF04D5CB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4C93-613C-48F6-A54F-B44E53F82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EF7F-7891-42DA-8913-AF9B87E3D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DB18-59DA-4CD1-8793-84BBAA07D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300F-AFBF-4A48-BE69-B635DC739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DBC4-3323-4832-A982-18E53DBC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17F6-2FE0-43D4-BA92-8F4436C8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B90C-8153-43C8-AD5E-BDADDD805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8AA3-B740-4393-B4A9-7868F601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6800-11D7-4665-8975-5FDBC8B7F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3A00-3574-4555-B9E0-A461DF932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40C3-08E4-42FD-A8DC-E6292F8AD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B88F-BCE9-4E62-B389-A1F8B53BB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0AA8-F88C-4B95-98C5-EF99F7690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649C-FA08-495E-9D53-6605A47FA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D382-D41B-490A-AB3F-6410901E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D538-8AE1-4D4D-A22A-CF8878FA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41E4-DB1B-4F5E-8BDD-7DCCB66F3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D5A7-B452-4A30-B7EF-1AE02426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00FD-8BB8-4140-914E-EE1327E39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4104-0DB9-4ADC-BFAE-D95EDA831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CE81-F600-4B3C-9150-C3EE732A2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5832-EDE3-44EE-9295-BD2AF3BFC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EE6-1E3B-4ADD-BAED-A1CC4A83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242-AC4D-4BB6-9A73-5EF84760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5CE-73C4-479B-9B08-0811155A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DD8-71D9-4A9F-898A-23141890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1BBD-8364-463D-888D-503BEE0D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60A5-E2BE-4786-BF87-1113550B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A637-F9EE-41DA-89DF-D6BB7474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5696-0955-424F-8F8B-07140843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0F91-803E-4E5D-9125-5E6B74E6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6C66-2C5A-4F06-B2A1-173ADFA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FDAC-2244-41DC-BE04-BE8D29A0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641-D90D-4225-B579-6AE988C5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3D6E-EC07-41AD-85F6-16A1886D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CA8D-310C-4442-8076-719E602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4A95-54D1-43B9-A8F1-15183C7C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A2C3-10FC-4183-A12A-A23A7BE4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2099-788C-4744-BA9A-42B21F94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296B5-89A7-47D2-B0DB-FC7A0411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30F7E-67C3-4F84-8957-B348A91E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3EABA-838C-4828-88EF-EB0D594C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ADA90-CBD0-423B-A5FD-E138A87A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721A2-361C-45B0-BEB4-A0EB81E5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438-6924-4041-A64A-667ED04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381B2-D35A-43BA-98EB-C8F5E028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92E7F-47FF-40D8-A5FF-C8FD7A64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7168D-EABD-41E0-8E78-D7D519C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39863-F048-485B-9A52-8F5A0B8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E1907-EADD-4ADA-ADF4-5FA60274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45C76-0920-4037-8FBB-7C3FEB75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D6921-54C9-41DB-8C9D-F295E629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E522F-EA40-4BCB-9237-420FE3D1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A7E48-06D3-4224-9457-3989AEEA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5835C-6644-4DC8-8B9B-0215C8AF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B49-698B-43CF-A977-03331871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07D3D-318F-4D7F-A23B-D2BFA85D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C664B-84EF-4507-B981-3EFB09D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E33F7-618A-495E-870E-E4C7033A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580EF-6ABB-4674-AB1C-BAC1532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9343D-DDD2-4964-B6BC-14F9FC8D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39010-868D-4CD5-952D-25CB901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047F3-BD52-4DB5-8D64-8636CAE8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DA339-4256-424E-92EC-D9617B5C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88EE6-22CA-4044-8B3E-44CCF5EA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829EA-A973-4561-B00E-B15B1690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E83-D920-49D8-B278-BBB0A641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CE616-0423-4BCF-A774-4EF9EB90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7A98D-22C2-4098-BEDD-9706EFDA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E9444-F1E2-45AE-AF02-A4386BF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E3133-13C2-4489-8E32-DC5C1478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06C31-EDDD-4ABC-976E-77373603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FE4A7-78B2-4FFF-8738-AF9216F7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DBCF2-6AC3-4C28-BFF5-6A0A51A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61655-3786-4511-93F2-FFFB908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86068-CA3B-453C-B253-67BA5553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8F412-8B50-4185-B84B-1AB3DED0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8E4-B855-4BAA-9E7D-6979D63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7E757-43B3-4358-BDD1-4843B273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7A58-F551-4B98-A7AE-4FFE5A45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7CD51-6949-432A-9D7D-B485F36A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A4A9-3742-4EA7-A29C-CF72E8A9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5E3ED-EAFA-403B-99DA-BF3FA56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7B46-2229-41B9-A9F1-69B76C41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0BA5D-B77C-467A-9D02-381099A4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5E4E-754F-4846-8F25-71A8DA2B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5DCE8-AAD2-49F6-9C31-99545FB5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8A6A9-4945-48C1-8DF5-FA2EB3F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F0D-661E-4FC9-ABD4-36229C9B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925D3-A8AB-4480-8A31-0A9B0FEF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85D80-9DF4-4F3D-9B2A-D1509B99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EA9A0-2980-4CC2-B446-1DE130F6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1E95A-7C0E-41B7-93F2-BC0B395A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21386-8E39-4E44-A128-F9AECE4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25CC2E-4D22-4609-A58D-32B557AC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FE33F-4CC7-4B95-B682-3A2CD1D2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ED42D-B399-4D23-BEE4-099905F4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E03AB-BCA1-491E-B8FA-166E0DF6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7B4A9-7E5D-444E-B345-6F1EF966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AF4-4555-43BC-8F15-54377FFA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08DBE-E425-400C-96E2-27F47054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0A127-39A7-4D02-9512-7144C36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E4866-20DE-4805-B5E5-C2592F95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E1FC0-59F3-4FED-9969-BBB20539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B692E-E635-4A29-BC00-D3A9D14A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64331-319A-465E-A1B3-C006079F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21019-AC73-4E28-AFEC-826A7B29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FD57C-75F5-4984-94EC-17FB5266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A5E73-F530-4316-874D-B88D673E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D80E2-1A12-48BD-A759-A8FBE9AC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F8D-1AB1-48A3-AFEC-A16D5548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D82DA-C47E-481E-A81D-A0907F75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7FEF8-8EA2-42D7-8D81-1C4CD54F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56FC2-0C1D-480A-9C06-86EB0EEE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453E0-D310-48D7-9566-7C7D0906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212A7-6C68-4922-B260-54966C66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47F6B-FC49-4FE9-9022-9A4CED05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30311-3871-4CF1-9157-CE6B84F2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9441-7CE4-4B10-A8D0-B4EEB9B8F47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E324-35EE-414B-BDC5-FEEF72FEC56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5D30-39DC-4D63-AEE9-05D94287196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86ED-653E-427D-9C83-7D4EDA5B7A0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7DC-84C3-4D03-9AC2-90D350D9FE9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BBB8-296C-4EEC-B06D-7C99D187E5B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BB57-02F8-4477-A9F5-FE24A30EF27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5636-ACB9-4CD1-9D3E-6068C6A7D5A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163000" cy="4541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formation on 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Nuts and Bolts of Big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4T01:44:25Z</dcterms:modified>
  <cp:revision>101</cp:revision>
  <dc:subject/>
  <dc:title>Inquiry/research process the information literacy solution</dc:title>
</cp:coreProperties>
</file>