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8440-2CE4-4278-B193-4BA739DC8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78AC-4DE8-4CBB-B63B-269CA98B4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63B5-A2A9-4AAB-987F-44C71A02C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hanged the graphic because the Big 6 isn’t really a cycle and it doesn’t have to be linear, so I chose not to use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E32F-7DCD-4AF0-B8DF-42DD061B0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C3AC-69DA-48FE-AC6C-D727A91E7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86C2-6AAB-4B8F-97C7-9DEA66A2D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FCC1-B70B-4B5A-AC49-42B250F30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9CAB-566D-4883-9187-6F7C0FB4D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4A47-130D-4376-BD13-AFF2496C7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B9D5-15A5-4FF5-9CFC-D2FB41EA6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C30B-1D64-42FA-82B8-8839D4326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15D6-1C4C-43EB-85A0-503F2C900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AC8E-9243-447C-AEB6-659243CDD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23A8-128F-4B2E-B098-C0CE93945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DB1A-7C9B-46E1-868D-B51C72A1A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34F6-F95D-4F1A-AB90-C8AE3534B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1A0B-5ABE-4617-8B1C-07E17D040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2679-9061-4E33-8A6E-A834C184C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5FE4-A938-4186-BA11-5D4C7B5FE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BE2F-E81F-484F-BD1B-EBCA8FFE6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FA6D-9468-47DD-8528-08055D47F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DF51-CF88-4CBA-8789-5DFECF15E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9FEC-05E0-4F47-84A0-4F9E87921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7312-9D7A-4174-9530-430CCFA0B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477B-3068-485E-9682-CCE8869AF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8B23-5546-4DFE-BCAC-ABFC1D3CB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FA85-5F2D-4578-AB1F-AF6715CF0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D641-BECB-49FF-A588-27F09B80C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94F7-4738-456E-9AD9-ABCE2C8E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3153-1BB8-4526-84E9-6FA09F95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AA2A-B1BA-4A6D-B6C1-6BBA0C60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A638-B988-438E-B2C7-CF9D9965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BAD8-A712-480C-8C13-0D9F3A0B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DE30-391D-4277-BC97-B7F44B29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71DB-2282-4A1A-B29E-ADFCCB5D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D5F0-7702-471C-B6C1-5251BA3F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77F7-F723-4D5B-B2C7-65FD9BC3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0D00-0F0C-4718-9122-680D9C73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FF8B-1A23-4DDD-A061-6AE6CF00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EB90-E93C-4887-97C5-84E0680C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231A-CB30-41B7-AB42-1AF090FD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F667-B751-436E-9BC3-94879828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8F11-E31A-43B7-9A0E-6C34A1F7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CD7D-284B-4AF2-BAB5-2CE31F92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EAA5-2FCC-4522-9385-A72F007A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56CA6-A853-4C5D-AFB0-BA54D1DB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35B9A-AC60-4BBE-9D0C-F12DFCD7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90128-2E85-4B62-AB8F-07CAA049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F780BC-3AAC-49A7-B287-45AEF76D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E509EC-01D8-414D-9402-104AAEEB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B797-291A-459E-88F0-3106E6B2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0553C0-545A-4176-8108-B64001A7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39E6A4-6B35-4F60-B15C-405145C0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8BE9F3-130A-41BD-9D0D-D4D8C179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379CBE-11F2-4067-9D47-F7B4CDD7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D4FCA7-3B87-4150-9AE5-351E3C9C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7DB8AA-F1B9-4A78-8663-E1FD49D0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B442D-7FBA-4857-A0D8-B3F4CD62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C6FB55-007C-4B70-8E6C-E69F213D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5B1247-85F4-4331-8FCA-8B1E910E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55A1C0-2E91-458F-8C74-908B7D0D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DC54-87F2-43FB-B807-5B4764CD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6C9169-0359-44BF-9E12-65A9E954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7960C4-29BF-46CB-9FE8-F435440F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183F33-31ED-4CD7-B0E8-4C1DB7FC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7E8F52-79F9-4062-946C-E1367C4B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A8BA44-A803-473F-9A85-52508484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ACE120-DE35-4CD4-9A74-4AC763D9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03CCB1-0116-4FF0-87B5-17938712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DA9E62-E9F5-4AA8-8B52-6A89F268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DFFA41-4BFF-440A-9936-C0EAE989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8DE988-F1C0-430D-AA5A-95CBAEBE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71C8-3D9B-441C-A14B-4BCFAAA4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B091A1-B082-4BFF-8D62-0FA8A268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BB19C3-CDD0-48A4-A115-9CECC16F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ACE659-F462-4D25-A317-BB5699DF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B85180-38BE-420E-9418-85B4A543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1BA4BC-2AA3-4530-9AF5-DE8E0AA5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F90C54-210E-471C-BCE3-3305D01D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D48BFD-26CC-4BEF-8C4F-653853DD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2B3D3B-693B-4F58-ACD7-A0C01CE2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A36FC4-F2BC-4F76-A5B9-2C9D7EE4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B82ED9-3B1A-49BD-BB9D-01F84442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CAA9-9E73-4DE9-BE28-F917238A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B3568A-8DD0-464B-A260-9D02220A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5E6E4-6492-4D39-94B1-65254426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EAE5A-96A1-4AF6-B188-C2461C10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CAEE4-0AF5-4901-851F-445AC57C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1246F-8CE7-44E3-993E-2587FD17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5CC1C-7C91-4649-AFA8-C4299FE2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18CC1-42C4-43B6-8E97-52BA8C4A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C38F7-4D12-42EC-B43F-4E40A65D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4635C-E817-413B-8746-16547CED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8A40A-D068-4092-BF46-E7E98961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89C1-6F4E-48AC-AC47-594ABEA3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3901F-4E0C-4F53-B158-F7F7424C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51B21-0C9B-440C-8450-4997B0E9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BB2A8-396D-4B4A-8519-E0F8D56A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6EBA0F-8584-4017-8045-86B98A3D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50223E-5C95-42D6-AF1D-967175C5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2AEB15-4BA3-4BCB-ABAD-62A0E639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C5BAC4-B532-40AF-8DCB-588FF677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02AAF9-D4BD-4807-92DA-E53D8B73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244398-A94B-4C74-A8AA-53C4CC12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242491-FEAA-4BB8-8903-343E9F2D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0381-294A-4478-AA7C-09C0469C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42A68F-9A52-45E7-91EA-7032ACE4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5927F7-9912-4506-8E6E-85A5E155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BC84D5-2181-41CA-A4BC-D583296B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B7ABCD-9362-49E7-A904-1417738B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C6EB2F-EEE9-49DD-90A1-539534F8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F4CDD-E5C9-4122-A0EA-C3E361CF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095D9-D1A9-4FB9-A347-7C4F3720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28F6E-D25C-4FBC-8C52-187C4E72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B8145-C2CD-4CCF-BFC2-6CB0F9BA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E37AF-C37F-4B9B-8D7C-463C1A79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C87D-C233-4718-A205-D44E7AC5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E13C2-B330-4EEB-A81E-BB8E2240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4B26B-1D0E-4CB0-BD55-D1773BF3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078C9-8DD6-4C25-8894-F99AEFB3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3E2CE-0661-43A3-9D58-ADACB312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9153B-73EA-4ECC-A466-CBDBD0B5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9BD1E-589C-4E71-B84E-9A5834B6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B2ECE-D2FC-4E4A-A7B2-974143E3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024E-AB90-4F69-AD85-EECF4A48F44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1DEC-8244-46B3-ADFF-8F06A4F73D41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BF5B-678E-4143-8B12-6F046B6A3FF4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2ABD-6B13-4C8A-9351-7F9F3943352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E156-8F69-4082-9368-AC3B8C40829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C312-6F09-4BEB-9A80-E486FC9F159D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90C4-648F-4EA3-8C3D-AAE7EDCD5FA0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3008-CEB5-47D3-81DC-16B5CA2FBFF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ig6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big6.com/2006/12/10/sing-a-song-of-research-turning-the-big6-into-a-tune/" TargetMode="Externa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26668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bddc3"/>
                </a:solidFill>
                <a:latin typeface="Tw Cen MT"/>
              </a:rPr>
              <a:t>BIG 6:</a:t>
            </a:r>
            <a:br>
              <a:rPr sz="9600"/>
            </a:b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YOUR INFORMATION LITERACY SOLUTION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Mandy Dempsey and Kathryn Stephenson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upport for teaching Big 6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0880" y="1447920"/>
            <a:ext cx="8385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 advantage to the Big6 is that there is a vast array of teaching support and staff development found at 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includ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Big6 in all content areas such as Language Arts, Math, Music, Science, Social Studies, and Special Need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ree resources such as graphic organizers, note taking, activity pages, and mor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formation on workshops, grants for training, and webina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ig 6 site for kids to help them understand the process furth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Big 6 Pro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2" name="Content Placeholder 3" descr=""/>
          <p:cNvPicPr/>
          <p:nvPr/>
        </p:nvPicPr>
        <p:blipFill>
          <a:blip r:embed="rId1"/>
          <a:stretch/>
        </p:blipFill>
        <p:spPr>
          <a:xfrm>
            <a:off x="609480" y="1573200"/>
            <a:ext cx="8163000" cy="45417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C:\Users\Stoli.Stoli-PC\AppData\Local\Microsoft\Windows\Temporary Internet Files\Content.IE5\VTJZVI1Y\MCj04414980000[1].png"/>
          <p:cNvPicPr/>
          <p:nvPr/>
        </p:nvPicPr>
        <p:blipFill>
          <a:blip r:embed="rId2"/>
          <a:stretch/>
        </p:blipFill>
        <p:spPr>
          <a:xfrm>
            <a:off x="1749600" y="1517760"/>
            <a:ext cx="774360" cy="774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C:\Users\Stoli.Stoli-PC\AppData\Local\Microsoft\Windows\Temporary Internet Files\Content.IE5\VTJZVI1Y\MCj04421290000[1].png"/>
          <p:cNvPicPr/>
          <p:nvPr/>
        </p:nvPicPr>
        <p:blipFill>
          <a:blip r:embed="rId3"/>
          <a:stretch/>
        </p:blipFill>
        <p:spPr>
          <a:xfrm>
            <a:off x="1749600" y="3882960"/>
            <a:ext cx="774360" cy="768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C:\Users\Stoli.Stoli-PC\AppData\Local\Microsoft\Windows\Temporary Internet Files\Content.IE5\VTJZVI1Y\MMAG00146_0000[1].gif"/>
          <p:cNvPicPr/>
          <p:nvPr/>
        </p:nvPicPr>
        <p:blipFill>
          <a:blip r:embed="rId4"/>
          <a:stretch/>
        </p:blipFill>
        <p:spPr>
          <a:xfrm>
            <a:off x="1822320" y="3121200"/>
            <a:ext cx="701640" cy="695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C:\Users\Stoli.Stoli-PC\AppData\Local\Microsoft\Windows\Temporary Internet Files\Content.IE5\FK67HN5B\MCj04415020000[1].png"/>
          <p:cNvPicPr/>
          <p:nvPr/>
        </p:nvPicPr>
        <p:blipFill>
          <a:blip r:embed="rId5"/>
          <a:stretch/>
        </p:blipFill>
        <p:spPr>
          <a:xfrm>
            <a:off x="1749600" y="2279520"/>
            <a:ext cx="774360" cy="7747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C:\Users\Stoli.Stoli-PC\Pictures\Microsoft Clip Organizer\j0441510.png"/>
          <p:cNvPicPr/>
          <p:nvPr/>
        </p:nvPicPr>
        <p:blipFill>
          <a:blip r:embed="rId6"/>
          <a:stretch/>
        </p:blipFill>
        <p:spPr>
          <a:xfrm>
            <a:off x="1749600" y="5407200"/>
            <a:ext cx="774360" cy="774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C:\Users\Stoli.Stoli-PC\Pictures\Microsoft Clip Organizer\j0442134.png"/>
          <p:cNvPicPr/>
          <p:nvPr/>
        </p:nvPicPr>
        <p:blipFill>
          <a:blip r:embed="rId7"/>
          <a:stretch/>
        </p:blipFill>
        <p:spPr>
          <a:xfrm>
            <a:off x="1749600" y="4645080"/>
            <a:ext cx="7808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1: Task Defini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efine the Information Problem (What is the task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Identify the Information Needed (What types of information do I need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1" name="Picture 4" descr="C:\Users\Stoli.Stoli-PC\AppData\Local\Microsoft\Windows\Temporary Internet Files\Content.IE5\VTJZVI1Y\MCj04414980000[1].png"/>
          <p:cNvPicPr/>
          <p:nvPr/>
        </p:nvPicPr>
        <p:blipFill>
          <a:blip r:embed="rId1"/>
          <a:stretch/>
        </p:blipFill>
        <p:spPr>
          <a:xfrm>
            <a:off x="8070840" y="2253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ask Defini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y teacher assigned a project on a famous Texan.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s the task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hoose a famous Texan from my teacher’s list to report on: Lady Bird Johns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nformation do I need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asic information: birthday, family, care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hy she’s important to the state of Texas/her accomplishm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4" name="Picture 4" descr="C:\Users\Stoli.Stoli-PC\AppData\Local\Microsoft\Windows\Temporary Internet Files\Content.IE5\VTJZVI1Y\MCj04414980000[1].png"/>
          <p:cNvPicPr/>
          <p:nvPr/>
        </p:nvPicPr>
        <p:blipFill>
          <a:blip r:embed="rId1"/>
          <a:stretch/>
        </p:blipFill>
        <p:spPr>
          <a:xfrm>
            <a:off x="8070840" y="2253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2: </a:t>
            </a:r>
            <a:r>
              <a:rPr b="0" lang="en-US" sz="3800" spc="-1" strike="noStrike">
                <a:solidFill>
                  <a:srgbClr val="775f55"/>
                </a:solidFill>
                <a:latin typeface="Tw Cen MT"/>
              </a:rPr>
              <a:t>Information Seeking Strategies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etermine all possible sources (What are the possible sources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Select the best sources (Which sources are the best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7" descr="C:\Users\Stoli.Stoli-PC\AppData\Local\Microsoft\Windows\Temporary Internet Files\Content.IE5\FK67HN5B\MCj04415020000[1].png"/>
          <p:cNvPicPr/>
          <p:nvPr/>
        </p:nvPicPr>
        <p:blipFill>
          <a:blip r:embed="rId1"/>
          <a:stretch/>
        </p:blipFill>
        <p:spPr>
          <a:xfrm>
            <a:off x="8375760" y="1461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75f55"/>
                </a:solidFill>
                <a:latin typeface="Tw Cen MT"/>
              </a:rPr>
              <a:t>Information Seeking Strategies Example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are the possible sources to find information on Lady Bird Johns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arch on Google for information, Use an online database (Encyclopedia Britannica, net Trekker), Encyclopedia, Books on Texas or Lady Bird herself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ich sources are the best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Google brings up way too much information and I can get the same information on the online encyclopedia as the book for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ll start with books about her and then use the internet databases to find mor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0" name="Picture 7" descr="C:\Users\Stoli.Stoli-PC\AppData\Local\Microsoft\Windows\Temporary Internet Files\Content.IE5\FK67HN5B\MCj04415020000[1].png"/>
          <p:cNvPicPr/>
          <p:nvPr/>
        </p:nvPicPr>
        <p:blipFill>
          <a:blip r:embed="rId1"/>
          <a:stretch/>
        </p:blipFill>
        <p:spPr>
          <a:xfrm>
            <a:off x="837576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3: Location and Ac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Locate sources (Where is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Find information within sources (Where is the information within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3" name="Picture 6" descr="C:\Users\Stoli.Stoli-PC\AppData\Local\Microsoft\Windows\Temporary Internet Files\Content.IE5\VTJZVI1Y\MMAG00146_0000[1].gif"/>
          <p:cNvPicPr/>
          <p:nvPr/>
        </p:nvPicPr>
        <p:blipFill>
          <a:blip r:embed="rId1"/>
          <a:stretch/>
        </p:blipFill>
        <p:spPr>
          <a:xfrm>
            <a:off x="8302680" y="225360"/>
            <a:ext cx="69516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ocation and Acces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 is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chool library has 3 books on Lady Bird Johns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can access the online databases from my classroom or at hom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 is the information within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books are all about her, so I’ll use the index and table of contents to find the information I need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ll search each database for her name and then click on the articles that are relevant. Then, I’ll need to skim and read them to find what I ne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6" name="Picture 6" descr="C:\Users\Stoli.Stoli-PC\AppData\Local\Microsoft\Windows\Temporary Internet Files\Content.IE5\VTJZVI1Y\MMAG00146_0000[1].gif"/>
          <p:cNvPicPr/>
          <p:nvPr/>
        </p:nvPicPr>
        <p:blipFill>
          <a:blip r:embed="rId1"/>
          <a:stretch/>
        </p:blipFill>
        <p:spPr>
          <a:xfrm>
            <a:off x="8150400" y="298440"/>
            <a:ext cx="6951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4: Use of Inform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ngage (e.g. read, hear, view, touch) (How can I best use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xtract relevant information (What information in each source is useful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9" name="Picture 5" descr="C:\Users\Stoli.Stoli-PC\AppData\Local\Microsoft\Windows\Temporary Internet Files\Content.IE5\VTJZVI1Y\MCj04421290000[1]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se of Informa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05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best use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will use the table of contents of the books to find the most important information first. Then, I’ll read the shorter books completely to get more informati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will read the articles found through the databases. I might have to skim first to find what I ne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nformation in each source is useful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found the basic information in the books, but one of them was just about her accomplishments as first lady of Texas and the wildflower project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ome database articles were more of the same and some were more in depth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2" name="Picture 5" descr="C:\Users\Stoli.Stoli-PC\AppData\Local\Microsoft\Windows\Temporary Internet Files\Content.IE5\VTJZVI1Y\MCj04421290000[1]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Information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“…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Young children tackle tasks, make decisions, and solve problems on an academic and personal level every day” (Robinson10).  As they do so, they are constantly being bombarded with information from a variety of sources. If we expect them to be successful in school and become productive members of society, we need to teach them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information literacy skills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 help them be effective life-long learner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4" descr="C:\Users\Mandy\AppData\Local\Microsoft\Windows\Temporary Internet Files\Content.IE5\I33D4CIP\MCj02997510000[1].wmf"/>
          <p:cNvPicPr/>
          <p:nvPr/>
        </p:nvPicPr>
        <p:blipFill>
          <a:blip r:embed="rId1"/>
          <a:stretch/>
        </p:blipFill>
        <p:spPr>
          <a:xfrm>
            <a:off x="6858000" y="4924440"/>
            <a:ext cx="20574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5: Synthes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Organize from multiple sources (How can I organize my information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Present the Information (How can I present the information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5" name="Picture 9" descr="C:\Users\Stoli.Stoli-PC\Pictures\Microsoft Clip Organizer\j0442134.png"/>
          <p:cNvPicPr/>
          <p:nvPr/>
        </p:nvPicPr>
        <p:blipFill>
          <a:blip r:embed="rId1"/>
          <a:stretch/>
        </p:blipFill>
        <p:spPr>
          <a:xfrm>
            <a:off x="7997760" y="225360"/>
            <a:ext cx="7812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ynthesi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organize my informati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m typing up my notes on a word document, organized into categories: basic information, the wildflower project, here career, first lady experien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present the informati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m going to make a timeline of her life on a poster board and a time capsule in a shoe box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8" name="Picture 9" descr="C:\Users\Stoli.Stoli-PC\Pictures\Microsoft Clip Organizer\j0442134.png"/>
          <p:cNvPicPr/>
          <p:nvPr/>
        </p:nvPicPr>
        <p:blipFill>
          <a:blip r:embed="rId1"/>
          <a:stretch/>
        </p:blipFill>
        <p:spPr>
          <a:xfrm>
            <a:off x="7997760" y="225360"/>
            <a:ext cx="7812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6: Evalu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udge the product-effectiveness (Is the task completed/Did I do what was required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udge the process-efficiency (How can I do things better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1" name="Picture 8" descr="C:\Users\Stoli.Stoli-PC\Pictures\Microsoft Clip Organizer\j0441510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valua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id I complete the task and do what was required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completed the project on time included important information without giving every detail of her lif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do things better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think I did a pretty good job. Typing on a word document and going back and forth between windows was a bit slow for me. Maybe next time I can organize my notes on index card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4" name="Picture 8" descr="C:\Users\Stoli.Stoli-PC\Pictures\Microsoft Clip Organizer\j0441510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tegration into Curricul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Math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as a problem solving strateg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Language Art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to research for presentations or solve characters’ problem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cience: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The Big 6 as a guide in experimen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ocial Studi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to find a proposed solution to a cultural or social problem, as well as to gather information on historical event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a teacher, you have many information gathering models to choose from. Although the Big6 may not be completely different than other models, the advantages ar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ear language that students can understan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sy to follow step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amount of support available on the Big6 website and all over the internet to assist in integrating it into your curriculu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775f55"/>
                </a:solidFill>
                <a:latin typeface="Tw Cen MT"/>
              </a:rPr>
              <a:t>Just For Fun</a:t>
            </a:r>
            <a:endParaRPr b="0" lang="en-US" sz="8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achers, engage your students before you begin with the Big 6 song!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/2006/12/10/sing-a-song-of-research-turning-the-big6-into-a-tune/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1" name="Picture 2" descr="C:\Users\Mandy\AppData\Local\Microsoft\Windows\Temporary Internet Files\Content.IE5\I33D4CIP\MCj02327280000[1].wmf"/>
          <p:cNvPicPr/>
          <p:nvPr/>
        </p:nvPicPr>
        <p:blipFill>
          <a:blip r:embed="rId2"/>
          <a:stretch/>
        </p:blipFill>
        <p:spPr>
          <a:xfrm>
            <a:off x="3733920" y="3276720"/>
            <a:ext cx="162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rks Cit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Nuts and Bolts of Big6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AT&amp;T Knowledge Network Explorer Homepag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kn.pacbell.com/wired/big6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Berkowitz, Robert E. and Mike Eisenberg.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The Big6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Big 6, 2009. Web. 18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big6.com&gt;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ig Six Steps- CRLS Research Guide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Basic Steps to Creating a Research Project- CRLS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Research Guid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crlsresearchguide.org/Big_Six_Steps.asp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ig6 Super3 template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Instructional Technology Media Center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205.213.162.11/project_big6/super3/super3.htm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Eisenberg, Michael. "It's All About Learning: Ensuring That Students Are Effective Users of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Information on Standardized Tests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School Library Management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6th ed. Columbus: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Linworth Books, 2007. Print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Hughes, Sandra. “The Big6 as a Strategy for Student Research.”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School Libraries in Canada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22.4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(2003):28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Journal Article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Robinson, Laura Eisenberg. “Early Learners.”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Library Media Connection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27.2 (2008): 10-11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Journal Article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All images courtesy of Microsoft Clip-Ar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Information Literacy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stated in the Information Literacy Competency Standards for Higher Education, “Information literacy is a set of abilities requiring individuals to ‘recognize when information is needed and have the ability to locate, evaluate, and use effectively the needed information”(Robinson 10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formation literacy instruction needs to begin with our youngest learners…” (Robinson 10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What’s a teacher to do?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hat method should YOU choos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8" descr="C:\Users\Mandy\AppData\Local\Microsoft\Windows\Temporary Internet Files\Content.IE5\I33D4CIP\MCj04114940000[1].wmf"/>
          <p:cNvPicPr/>
          <p:nvPr/>
        </p:nvPicPr>
        <p:blipFill>
          <a:blip r:embed="rId2"/>
          <a:stretch/>
        </p:blipFill>
        <p:spPr>
          <a:xfrm>
            <a:off x="2819520" y="914400"/>
            <a:ext cx="43988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Tw Cen MT"/>
              </a:rPr>
              <a:t>Never Fear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w Cen MT"/>
              </a:rPr>
              <a:t>BIG 6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w Cen MT"/>
              </a:rPr>
              <a:t>IS HERE!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0" name="Picture 5" descr="C:\Users\Stoli.Stoli-PC\AppData\Local\Microsoft\Windows\Temporary Internet Files\Content.IE5\8MJD2KME\MCj04418880000[1].wmf"/>
          <p:cNvPicPr/>
          <p:nvPr/>
        </p:nvPicPr>
        <p:blipFill>
          <a:blip r:embed="rId1"/>
          <a:stretch/>
        </p:blipFill>
        <p:spPr>
          <a:xfrm>
            <a:off x="3657600" y="4724280"/>
            <a:ext cx="226368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Big 6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Big 6 i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n information literacy curriculum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n information problem-solving process that can be used in all areas of lif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 set of skills which provide a strategy for effectively and efficiently meeting information need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Nuts and Bolts of Big6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Why Should I Use Big 6?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uses a multi-level approach so students can develop competency in information problem-solving and decision-making that will carry forward into lifelong, useable skills” (Nuts and Bolts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integrates information search and use skills along with technology tools in a systematic process to find, use, apply, and evaluate information for specific needs and tasks” (Robinson 11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skills are not taught in isolation, but within context, current curriculum, and everyday experiences” (Robinson 11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can be applied as a thinking process to deal with most problems and therefore can be applied consistently and repeatedly throughout the learning program, thereby increasing a student’s chances of learning it” (Hughes 28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Student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udents will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earn transferable planning and organizing skills they will be able to apply for a lifetim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nd, sort, and apply relevant, credible information to creatively solve a problem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epare a solution based on reliable information, and give proper credit to information sourc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chieve results using any individual learning style; Students will consider if their current style and approach works well for problem solv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nderstand general problem-solving concepts and then refine each skill to learn and perfect specific detai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(big6.com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Teacher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dapta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Your current units and lessons can be framed within the Big6 context. Big6 compliments standards-based curriculum, and has terminology to fit student learning in grades K-12 and beyond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Flexi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Emphasize one Big6 skill or all Big6 skills throughout a school year, based on needs in your school, time and resources available, and library/classroom partnership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ollaboration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facilitates communication among administrators, classroom teachers, and teacher-librarians. The Big6 is useful when you need to coordinate cross-curricular projec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Training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Trainers are professional, in-school educators. Big6 workshops are tailored to meet your local needs, and the Big6.com website resources provide ongoing suppor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(big6.com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0:57:56Z</dcterms:created>
  <dc:creator>Stoli</dc:creator>
  <dc:description/>
  <dc:language>en-US</dc:language>
  <cp:lastModifiedBy>Mandy</cp:lastModifiedBy>
  <dcterms:modified xsi:type="dcterms:W3CDTF">2009-10-24T01:44:25Z</dcterms:modified>
  <cp:revision>101</cp:revision>
  <dc:subject/>
  <dc:title>Inquiry/research process the information literacy solution</dc:title>
</cp:coreProperties>
</file>