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EA8-EA62-4698-8E4A-C6107F3B5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D96E-B19C-4F74-B0DE-E83E436A4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ED28-9669-47ED-B99D-4AF84E4A2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5F8C-4669-4C82-93D0-12098102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93BF-7EC6-4D86-8AC7-68D965028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8091-A973-4351-93DA-4CEA8E26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219A-1A0E-4905-9A87-AC2815C3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178D-5F01-432E-AD51-CC1C0DF8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7952-D879-4303-90CD-BE524EB0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235-E716-4ACA-8002-8DD8BB388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4A41-593C-4E07-885C-6CC750DCA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5C8C-86D0-41A6-B56F-8A0A637B5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409C-6017-4AA7-95A9-D493E05A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DDFE-B12A-437B-8624-6F1B4154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507-A2CB-4806-A128-9F355805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753-48CF-460E-89A2-263540EF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340-C812-479D-B036-DF3E1E3D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974-4B00-4035-8AAA-521290C3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8B16-8F32-4DCE-AFCA-AD090CF9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2C96-3374-4AE7-AEEE-3A142C14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98EB-6321-45D9-8B44-729131AA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7FEB-9531-4F28-BF99-0D160367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0BA6-8CAD-4AC3-9351-8BF26102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DE67-1636-4A9D-A931-CBA4AADE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AE6C-E186-415E-AE15-C2E291D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912-92F5-4135-AC26-E1EA13EE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41D5-99AF-4349-AE02-444A253C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7D3F-531E-440F-8969-94026EB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8777-1BD8-47B8-BF91-ECCC1A60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8539-5FCF-4A14-9585-5E3C2AAF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F4A4-9985-4A3B-80DF-6AF424FA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98D0E-2A2E-4F27-89D2-C0B0E842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2994B-C559-47C8-92F0-EE4E94DB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17478-9034-4724-8280-F1AE51DB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57FA1-A704-4F34-A86A-05D59ADD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022C4-760D-48BF-B1C0-C08FC712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035-3FB5-4B8A-BF74-28CE88EA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83D83-6695-4087-A1F0-FC060265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14143-EE0F-4B77-BB65-F5231D7E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1AFAF-2C55-44B4-BF12-1FFC634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1887C-7706-45C2-AFED-E70B62B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FA2C9-4401-4A27-9F46-2959046D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CBEEF-404A-4C3C-B3E9-2782244F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575FD-CBBD-4431-B378-C9C545E7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A1E41-229C-4D82-8805-AC5D7587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A1F56-52B0-4589-B4BC-A5D719B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56FE3-3EE2-4071-B6FC-950EE4D1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47B-054F-4E37-93AA-2E5E41C4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A7E678-C24C-40BE-9F52-B379A90F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841A5-CFE0-4E5B-B854-88EA7B45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34CEF-C7BB-42C1-B65B-0F90131C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E48BD-ABEA-4C71-8453-A2ECE12E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B3671B-7626-4228-8D84-E99A710F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BCCEB-442B-40A1-A6FF-377FCD0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D904E-C101-46EB-8CFE-136DD18B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894FD-901E-404D-8CA9-F7DB9796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CF2F6-DE07-40C2-9A6B-C80FCB00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DFDDE-72AE-425A-8667-3FC52B75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503-4A7E-4527-BDB0-08859D8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64301-8BA7-4ED0-AB36-7327F4FE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1F6E5-9B8C-4E2C-B423-87016C1F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745B5-135F-4074-A52C-B201A84B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C76E6-CB5C-499F-B547-12E03D48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EA151-33D8-4D97-B468-C381B583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6D0C6-9C17-4471-BC41-89DCBAA5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E909F-6173-4322-9967-473C7FAE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A1842-0C98-480C-A1D1-1A82D66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94317-4BCB-4EC7-9B59-5D18DDFF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55797-06D7-48C7-8EE0-8FDA1AC5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C28-ABF4-4D1B-8AAE-F779121F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B160E-A952-4605-BBC8-E7EA5D56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ADC6-FBD0-4D88-9090-0A8796EB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F6B1-B7BD-4F06-B21D-E42F8EC4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7D517-8B76-497E-B604-F3394F25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383FB-1679-4235-9329-D633C7DE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09DDB-5175-4D71-B646-532026ED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BB19D-0D8E-47D1-9694-84756C43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D896E-8C0E-43BD-B205-83B696F6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5D232-C94C-4F4B-BFD1-1223ACB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ACB83-9F64-4061-8730-3BBCB87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19D-8EEC-4E71-BB1B-2023483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E9DE3-B1B0-45FE-B625-892BFFD6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B79CD-7BC9-41E3-AB6A-D8B5B072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D4EF-8D25-4BA5-9731-E9F68122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9078B-7732-4586-8149-8E14083E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ED9AA-4197-4053-A60F-44752483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EF0ED-42ED-456C-A91D-D6D641BB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FF427-E75B-456C-9E05-06B2E5A4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0BF06-9503-410C-B0A1-4FBB760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7D017-5963-4692-996A-58A955DD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65559-A46A-4D7B-9989-7BD707D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D85-66A1-4F91-8ED7-FE584D3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0FF10-E040-44E7-A2B1-A5D000B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08CB6-43AA-4525-A042-48D0A71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2BAE1-2623-4E35-9C60-98779755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84A1D-9629-41B8-9CCE-417A4CCF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E3C1F-FB35-4581-8D7D-F5D01D2E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8F7CE-4377-4490-8EE4-BBD9B9E8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7C83E-50C0-4194-8B2D-61C3FE79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DE99D-2EFF-4E25-A623-D87C5AC8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C7061-9627-4425-8BAC-B51518E4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09569-4EB8-4676-BC51-20D3F34E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0A2-D149-4464-B9D5-0136532E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C0394-1C91-42C7-8F32-5FBA2B32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C1C1D-B01A-446B-9F9F-681F9740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E48FA-AC26-4914-B9F1-2449B350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E7E2-56DC-4C6F-B655-5CAEE55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C975E-FC75-4A9F-A364-BA518220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0A00B-BD52-43AB-8A84-B3E29E58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4CF36-2DA6-43B6-9763-31C78EEE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F41F-EF4D-4A4B-A4F4-9F78F88469D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B736-62C6-47AD-9B8D-24852676752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D693-0966-4F46-B5A3-A63E9CA37F1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1A71-A548-456C-9D30-D389E6F7AF7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BF37-288C-482D-AA54-88075416994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BB85-659E-4B15-B45F-A25392387BA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ED0-53B7-4906-9348-B906EEAC876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5EF1-36B4-4D66-87A6-B96A9E0E887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9680"/>
            <a:ext cx="8163000" cy="453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Information on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1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Stoli</cp:lastModifiedBy>
  <dcterms:modified xsi:type="dcterms:W3CDTF">2009-10-24T01:23:51Z</dcterms:modified>
  <cp:revision>99</cp:revision>
  <dc:subject/>
  <dc:title>Inquiry/research process the information literacy solution</dc:title>
</cp:coreProperties>
</file>