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352B-4AA3-4DE8-9A5A-354D5D99B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0C79-7CEF-403B-AF96-ADE10F458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1619-32D8-452A-8D94-D85D5FE94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0FB3-DFFB-44C4-9819-7B8B9C3B1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49DD-EB4D-472A-BD84-C45FBBC3D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2790-BF1F-4BAB-B75D-E529C840E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30AD-24D9-4DA8-BA12-94C5EFD88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6A96-637C-43EE-83AE-4503B3316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6499-4F76-4874-9524-AC4ED559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6BF7-22ED-41FF-A20B-312AD1EE1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6CA5-896D-4208-AAEA-1DCBA1D7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5ED1-4278-4D3B-98B2-CFC941CE8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9423-5F39-4D7C-9723-EA15001F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CF5B-02F4-44DA-AD3D-6A125C07A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92C-63BE-4381-B3BA-2C5EE7F8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F71-55E4-4117-9DA3-9BF60A3A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CBD-17E0-4290-BE20-039081E7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B52-77E5-4F62-A79C-F3884C5A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331C-77D3-45CC-8C5A-FF236411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35E7-7007-4066-81D5-FEB29C98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1258-BB6B-412B-BCED-1277E9A4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455B-2511-4956-BDDD-40CE5EF5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9041-8247-4948-93E6-5054365F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84E8-911E-454B-8F8F-8A1E0E98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8D42-4721-409F-9361-54F5B656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F7D-77B2-4245-9F30-64B78978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6E8A-2D77-4F43-AED6-6732A1D9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2301-D79D-4C47-9429-554BFC6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72CC-AC73-4057-B4DE-5541640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BD14-84DE-4E1A-A5B7-03B95F6F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A021-6ADD-4481-B92C-2DC0468F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E86E7-F6D9-480E-820F-8026076B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AC1E2-53E9-4DD4-9CE3-966612A0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E306A-0913-498F-B33D-8BE13A02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BDD21-0882-4E25-8CE1-B09A69D1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1477C-AE16-426F-9BB7-B65A10A0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752-4A47-439A-A295-2C084D1E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9087D-5F4E-4403-AD03-9F4EF7F2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ABB80-3406-421A-AFEC-020BF80B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98E30-44AB-4E00-AD3E-311E6FE0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3B1FA-9C0D-44EF-B6CB-89BF9FDE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2F37F-4637-44DB-A2A1-8FD10FD8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0FC02-841D-475E-8DF9-796F75B9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80633-639C-4307-9122-22475636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87559-2571-4227-9C1D-4140A105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4F16A-01C9-4C40-B905-5AE24BAC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8AC9D-7BEC-4CB7-8DF5-4BCCA213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574-6FD7-403F-8E3E-E84188EF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8CA8E-896A-46D0-ABEC-2CF1E1F6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7B449-4F49-4CF2-BB2C-6CEB8818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70A16-8E31-4596-BD84-4D815022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127E6-4188-4A05-95E8-F7E41AE9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16134-B52A-4413-9391-C2C19FC9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422B0-C60C-40E6-8448-240E31BE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A3E76-C8F1-49B2-90D0-B1D91757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B2726-4E65-4F86-B47F-0021F92E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4F9AE-4FAA-44B9-ABF2-CDFFF76C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1C6C7-25C0-4CAC-AB78-51A2834D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55B-0A3A-47CD-A7E6-70780DD0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6F0E4-E0BF-478C-9EF7-7E0D7BF9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3D029-F454-4731-965E-329EFBBD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9B8D9-6B65-4FE3-8C48-79EB5FDE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84F4A-FABE-4DE3-AA19-6B87F368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4963B-7B71-4CBA-8393-744C7CA0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33367-9770-4328-8F64-6D111910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8CB28-1D59-4A36-ADA1-7451BED8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4A441-502E-4B40-A857-0DB8DE5A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8B592-7876-498C-8BA6-9F38D7F3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E7D6B9-D3FA-43FF-B641-5A93BD33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609-0C89-4F07-801D-47F20E71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50008-5509-4169-BB9E-441BD7CA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6F59F-9686-43BA-B0B1-6EC46CD5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6742A-628F-484E-B76A-844BFBF7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9C3A-E311-4C49-918D-7CD4D2D9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1A5ED-B685-434B-B1C8-6A247ED6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FD3F7-6972-40D9-A63B-DB005950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3984A-654E-479D-916D-ECFA6AA7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AD640-B3A1-4F4E-BAD7-E3537EC6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2FF7-42FC-438D-881D-4C7BEBF8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1CAFB-1686-45AA-865A-8B9D7C42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DCA-0C21-4FB6-B05B-1B301BA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26980-D665-4A62-B0CE-CBDE8293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D66C4-748D-40B5-AFA1-00609ACB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71D89-6FCD-4E77-93F7-76297A2B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C1F3E-1722-4D81-8044-0AB99E3C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9C3A6-DEDB-406F-9CCB-A180E1B4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DC9BC-C859-44E8-8103-C50D6300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73A11-56F9-4E15-87E7-172A0784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E7171-F3AF-4363-9796-73353B9C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33D448-AEAA-46D2-B279-550EF857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A68FE-EC00-4456-A81E-56D2B063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22D-46C6-41C1-AF50-261684D6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558B2-81F3-4D7E-8CDA-49B43331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4157E-E6C9-4490-9F25-EB52B078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839AD-4479-4460-94AE-A4C742C5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BEA68-7FE4-4FBA-9D38-B7CE1D30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DEA65-2EB1-4B94-83ED-0741A6C9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1FB3D-76A0-4E8D-8E33-30F46EE0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A9D9C-6C71-4E59-B80E-74B6108F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A0BFA-975A-409B-BADA-7BF89952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1412C-4A95-4D03-B260-2F7866A6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067BD-B192-4467-AD8E-0305E946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476-6A0D-49B6-9484-508F0815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C56AF-5E66-44F1-9BB8-49E4A190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C9E9B-0341-47CF-818E-E5A8371D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D6A78-509C-414F-81AF-19DEABEF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98E63-DD20-436C-A2C0-CB22DF49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38CD2-BFE4-4D08-B711-284E6632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0C74E-45AA-4CD4-A703-D9757AE5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FC651-A05A-4A87-9D60-885069B1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8EC5-725E-4561-B959-868E04BE17A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8B3F-B7E7-4FA7-8824-327C3AA44301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8230-3E34-40DE-8C0C-CE4864CD8BEF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FA8C-2E69-4FAC-A0A0-3FA8016B3F7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22D4-CC00-4D66-A666-1DDCA3DB3BA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A827-A934-46FA-AD24-3429F2CCD38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CFFF-1E20-4290-BC23-E7403C0EABF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9154-D443-4116-9098-3872D7894A7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9680"/>
            <a:ext cx="8163000" cy="453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Information on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1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1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Stoli</cp:lastModifiedBy>
  <dcterms:modified xsi:type="dcterms:W3CDTF">2009-10-24T01:23:51Z</dcterms:modified>
  <cp:revision>99</cp:revision>
  <dc:subject/>
  <dc:title>Inquiry/research process the information literacy solution</dc:title>
</cp:coreProperties>
</file>