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8F9E-996F-4299-857D-C28EBC50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34ED-BF4A-4517-9941-4F4EC495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67FF-9409-47D4-B14A-E458586F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nged the graphic because the Big 6 isn’t really a cycle and it doesn’t have to be linear, so I chose not to use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E779-83C1-40C5-AEAB-6B1D8134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4F74-870F-4F5E-AF74-C2005332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007-1FC2-45A0-8758-FC3A41499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75CF-A07A-4D0E-BC48-F4BB944B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978-F91C-4DCD-8B30-26F8F5E4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E38C-0887-4690-AA36-E3CD98881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6CB-8F52-489F-A393-441FBB70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71F5-4975-473D-9103-869C6D9F0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98D-1A49-4025-ABDB-1EC6CBCF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EFCF-1C33-4567-B6B4-95C442A8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8763-2D55-4689-A217-C305A792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DD0-A220-4EED-914C-ECF3C8C8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24D-03BC-4361-A955-01A67CC4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E02-4CD1-40A0-B3AB-6EF22DD8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979-DC09-41E2-84B6-E018EDCE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8461-9CF8-4671-B49E-707261E8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88F4-DC06-4A0E-84A0-DF2F61A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9572-66D1-4CDD-81D1-524CB91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60C3-D93F-4E66-AAC5-57F944CD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A1F-5901-495C-8ECD-8E3920D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F5F9-F64C-4B5A-A035-CEA4D303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C6DB-5BCE-4F6E-BB8F-2D0D068F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727-60C3-415B-B797-1FC7D309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5ACF-A909-449D-B3E4-D99B4A44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FE6-34BD-4B72-A426-3B5D6FA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78BB-2566-4DCD-9714-DFC60588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6BB-BBED-43FE-A33D-E5FC0B8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6BF-4BF9-4312-92FA-72537509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A08C3-E47D-4A80-A092-F3623554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75AC6-809F-4910-AC3D-2BF23B6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8FAA7-B7C1-4EFE-AE36-C6D9DD64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96356-0488-49B2-BC8A-F36582C7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9C600-6C5C-4E3A-8311-50D4217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9E4-E09C-46EE-9DAE-AA39ADA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D5A48-0869-430A-B194-CCE7214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E59B7-4C08-4FB0-8014-B4D3297C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A4C35-8098-4D3A-9CB8-0D8A0AB2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100B0-CACC-48BB-89A6-3B2D02D8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F20A3-D531-43D1-AFB9-737E3C19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346B1-1A34-43AA-A2BF-6F8F9288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F35CA-BD17-4ADC-A2B4-69F3E64E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154A3-275E-4501-A79F-E79584E9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32429-0B2F-4CD3-B229-239B0757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3933E-388D-4CDB-9BDC-2D13BD8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87C-F6AC-4B28-AD96-8F19A093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5219E-775B-44F9-B3AD-6477E851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16BB6-0E72-42C6-9CC3-6838DF4E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A61C4-1C80-4C54-8982-C6D2C942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68CEA-40CD-4C07-9926-5B95A93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778D3-E015-4F39-A042-5B5642A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1D552-C58E-468C-A652-2A4DC3AC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15088-2E8A-4ABE-94B1-EC37DCF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C5D78-030E-4505-81FA-0F9867DF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EEE1D-621F-48ED-A67A-7940E5A8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FBDBC-DA54-4308-A2B4-03EED075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6CB-5A85-44CF-BD48-C927B79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0C611-926D-4530-BD67-4DCFEFB8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5AD21-ADB5-4C01-81CE-C19DB4E6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FABED-BC67-40CA-9951-568A9C3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6A650-0AAE-4B3F-829B-BA7090D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AA52C-4D9D-4E31-81E2-5E2ACB93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370A7-6766-4A2C-8C79-4ACC588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1E566-FCCA-49DF-8D36-1F23EAB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1FBA0-2290-4CED-B805-046FD10D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5D48A-ED9F-4C03-AF38-8F4206F4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4103C-2C04-41DD-B8EC-90B42168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1A2-0D52-4DC1-B6F5-14C6CDA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02478-E831-445E-AB36-F5B22D75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34508-83F7-4809-9051-AEE521D5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6EFF-078F-4874-80B5-A5FC4A04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0CC21-F247-49E2-8A33-C96D8516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1E4D3-5D1D-49D7-A0C3-DB9718C8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F247F-9755-4686-B977-A146EDDC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F1E77-00F8-4D74-957F-964A2C8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37C3-07D2-4E27-BB7C-0055F521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BB640-21E3-40C7-88C9-EF20F74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C233-4178-43EF-AB46-9AC6AB0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37A-5068-4614-9534-DC9AD3F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124C-39C2-4F7F-992D-4635807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A71FC-2A12-46B0-A0FA-3C3A0B27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0F0D-BD97-490B-AF07-7E29B96B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34551-31F8-4278-BF4F-F7C76DC4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06FFCD-A610-4976-AE42-FB0D2E06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27CF9-1132-4459-A505-ACF4F394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BA599-C850-4917-B839-7FD7435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865D7-778B-4FF9-B3BE-6E5AC267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28FDB-989B-4ECD-A18A-9662C977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7D33FC-2DDB-4C25-B3C5-2CBF10C8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9B2-9614-42BD-9C87-34E8349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B795B-DDDA-480B-8167-590D616F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11238-CF27-4C69-B0B2-6C9C08A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65218-69B4-4AE7-92DC-FB1016F6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A18B3-F30B-47D5-BFB7-7C996B32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D2616-684F-4A8C-B6FB-688D75FB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9ED1-9DD1-46DC-B8A2-E80A7417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A896D-A6DB-415D-BEFE-D75797C3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940FA-8B5E-4BB8-9ADD-C5E384E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09E6-06BC-4B43-A941-EF26133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C5D57-D338-4EB4-9813-AF18EA21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960-ADCF-42B8-9574-FDF57229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C7DD-0734-4612-9E63-BB44BC25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9CD08-07E4-4E51-AFF0-C5513643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5485-01B7-4BE6-A726-B3011D6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6FC44-980B-4309-B75A-04495585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436F0-F2D3-4EB0-BD09-088737B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9A062-E7AF-4118-9BCA-1A35FCB3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E239E-2530-49D3-A88F-4D374539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17C0-D6DE-4F5D-8DDA-FBF6C380A75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D6A6-8473-468B-BFF4-B5A6CF1D2C5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13E-7DA5-471A-82DC-15648D4107A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AEAB-EB2A-4743-B43D-3D2A5F4E2B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10A-C945-4575-A94A-7B28C8CC179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F6A1-E963-49FB-87BA-83CD2FA822A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85DC-665B-4107-972C-E52A05D559D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0F2-0922-4EC0-B730-487B47A9CD9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g6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big6.com/2006/12/10/sing-a-song-of-research-turning-the-big6-into-a-tune/" TargetMode="Externa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26668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BIG 6:</a:t>
            </a:r>
            <a:br>
              <a:rPr sz="96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YOUR INFORMATION LITERACY SOLUTION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dy Dempsey and Kathryn Stephenso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pport for teaching Big 6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447920"/>
            <a:ext cx="8385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advantage to the Big6 is that there is a vast array of teaching support and staff development found at </a:t>
            </a:r>
            <a:r>
              <a:rPr b="0" lang="en-US" sz="2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Big6 in all content areas such as Language Arts, Math, Music, Science, Social Studies, and Special Nee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ee resources such as graphic organizers, note taking, activity pages, and mo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formation on workshops, grants for training, and webina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g 6 site for kids to help them understand the process furth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ig 6 Pro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609480" y="1579680"/>
            <a:ext cx="8163000" cy="453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Stoli.Stoli-PC\AppData\Local\Microsoft\Windows\Temporary Internet Files\Content.IE5\VTJZVI1Y\MCj04414980000[1].png"/>
          <p:cNvPicPr/>
          <p:nvPr/>
        </p:nvPicPr>
        <p:blipFill>
          <a:blip r:embed="rId2"/>
          <a:stretch/>
        </p:blipFill>
        <p:spPr>
          <a:xfrm>
            <a:off x="1749600" y="151776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Stoli.Stoli-PC\AppData\Local\Microsoft\Windows\Temporary Internet Files\Content.IE5\VTJZVI1Y\MCj04421290000[1].png"/>
          <p:cNvPicPr/>
          <p:nvPr/>
        </p:nvPicPr>
        <p:blipFill>
          <a:blip r:embed="rId3"/>
          <a:stretch/>
        </p:blipFill>
        <p:spPr>
          <a:xfrm>
            <a:off x="1749600" y="3882960"/>
            <a:ext cx="774360" cy="768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C:\Users\Stoli.Stoli-PC\AppData\Local\Microsoft\Windows\Temporary Internet Files\Content.IE5\VTJZVI1Y\MMAG00146_0000[1].gif"/>
          <p:cNvPicPr/>
          <p:nvPr/>
        </p:nvPicPr>
        <p:blipFill>
          <a:blip r:embed="rId4"/>
          <a:stretch/>
        </p:blipFill>
        <p:spPr>
          <a:xfrm>
            <a:off x="1822320" y="3121200"/>
            <a:ext cx="701640" cy="69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C:\Users\Stoli.Stoli-PC\AppData\Local\Microsoft\Windows\Temporary Internet Files\Content.IE5\FK67HN5B\MCj04415020000[1].png"/>
          <p:cNvPicPr/>
          <p:nvPr/>
        </p:nvPicPr>
        <p:blipFill>
          <a:blip r:embed="rId5"/>
          <a:stretch/>
        </p:blipFill>
        <p:spPr>
          <a:xfrm>
            <a:off x="1749600" y="2279520"/>
            <a:ext cx="774360" cy="774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Stoli.Stoli-PC\Pictures\Microsoft Clip Organizer\j0441510.png"/>
          <p:cNvPicPr/>
          <p:nvPr/>
        </p:nvPicPr>
        <p:blipFill>
          <a:blip r:embed="rId6"/>
          <a:stretch/>
        </p:blipFill>
        <p:spPr>
          <a:xfrm>
            <a:off x="1749600" y="5407200"/>
            <a:ext cx="774360" cy="77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Stoli.Stoli-PC\Pictures\Microsoft Clip Organizer\j0442134.png"/>
          <p:cNvPicPr/>
          <p:nvPr/>
        </p:nvPicPr>
        <p:blipFill>
          <a:blip r:embed="rId7"/>
          <a:stretch/>
        </p:blipFill>
        <p:spPr>
          <a:xfrm>
            <a:off x="1749600" y="4645080"/>
            <a:ext cx="780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1: Task 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fine the Information Problem (What is the task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dentify the Information Needed (What types of information do I ne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sk Defini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y teacher assigned a project on a famous Texa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s the task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oose a famous Texan from my teacher’s list to report on: Lady Bird Johns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do I ne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asic information: birthday, family, care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hy she’s important to the state of Texas/her accomplish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6000" indent="-306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C:\Users\Stoli.Stoli-PC\AppData\Local\Microsoft\Windows\Temporary Internet Files\Content.IE5\VTJZVI1Y\MCj04414980000[1].png"/>
          <p:cNvPicPr/>
          <p:nvPr/>
        </p:nvPicPr>
        <p:blipFill>
          <a:blip r:embed="rId1"/>
          <a:stretch/>
        </p:blipFill>
        <p:spPr>
          <a:xfrm>
            <a:off x="8070840" y="2253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2: </a:t>
            </a: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Determine all possible sources (What are the possible sources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Select the best sources (Which sources are the best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14616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Information Seeking Strategies Example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are the possible sources to find information on Lady Bird Johns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arch on Google for information, Use an online database (Encyclopedia Britannica, net Trekker), Encyclopedia, Books on Texas or Lady Bird hersel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ich sources are the best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ing Google brings up way too much information and I can get the same information on the online encyclopedia as the book for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tart with books about her and then use the internet databases to find mor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7" descr="C:\Users\Stoli.Stoli-PC\AppData\Local\Microsoft\Windows\Temporary Internet Files\Content.IE5\FK67HN5B\MCj04415020000[1].png"/>
          <p:cNvPicPr/>
          <p:nvPr/>
        </p:nvPicPr>
        <p:blipFill>
          <a:blip r:embed="rId1"/>
          <a:stretch/>
        </p:blipFill>
        <p:spPr>
          <a:xfrm>
            <a:off x="837576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3: Location and Acces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Locate sources (Where is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Find information within sources (Where is the information within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302680" y="225360"/>
            <a:ext cx="6951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ocation and 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chool library has 3 books on Lady Bird Johns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an access the online databases from my classroom or at ho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ere is the information within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books are all about her, so I’ll use the index and table of contents to find the information I ne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ll search each database for her name and then click on the articles that are relevant. Then, I’ll need to skim and read them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3600" indent="-231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C:\Users\Stoli.Stoli-PC\AppData\Local\Microsoft\Windows\Temporary Internet Files\Content.IE5\VTJZVI1Y\MMAG00146_0000[1].gif"/>
          <p:cNvPicPr/>
          <p:nvPr/>
        </p:nvPicPr>
        <p:blipFill>
          <a:blip r:embed="rId1"/>
          <a:stretch/>
        </p:blipFill>
        <p:spPr>
          <a:xfrm>
            <a:off x="8150400" y="298440"/>
            <a:ext cx="6951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4: Use of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ngage (e.g. read, hear, view, touch) (How can I best use each source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Extract relevant information (What information in each source is useful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se of Inform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best use each source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use the table of contents of the books to find the most important information first. Then, I’ll read the shorter books completely to get more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will read the articles found through the databases. I might have to skim first to find what I ne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hat information in each source is useful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found the basic information in the books, but one of them was just about her accomplishments as first lady of Texas and the wildflower project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database articles were more of the same and some were more in depth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5" descr="C:\Users\Stoli.Stoli-PC\AppData\Local\Microsoft\Windows\Temporary Internet Files\Content.IE5\VTJZVI1Y\MCj04421290000[1]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Information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ng children tackle tasks, make decisions, and solve problems on an academic and personal level every day” (Robinson10).  As they do so, they are constantly being bombarded with information from a variety of sources. If we expect them to be successful in school and become productive members of society, we need to teach them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information literacy skil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help them be effective life-long learn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4" descr="C:\Users\Mandy\AppData\Local\Microsoft\Windows\Temporary Internet Files\Content.IE5\I33D4CIP\MCj02997510000[1].wmf"/>
          <p:cNvPicPr/>
          <p:nvPr/>
        </p:nvPicPr>
        <p:blipFill>
          <a:blip r:embed="rId1"/>
          <a:stretch/>
        </p:blipFill>
        <p:spPr>
          <a:xfrm>
            <a:off x="6858000" y="4924440"/>
            <a:ext cx="2057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5: Synthe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rganize from multiple sources (How can I organize my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Present the Information (How can I present the information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ynthesi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organize my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typing up my notes on a word document, organized into categories: basic information, the wildflower project, here career, first lady experi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present the informatio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’m going to make a timeline of her life on a poster board and a time capsule in a shoe box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9" descr="C:\Users\Stoli.Stoli-PC\Pictures\Microsoft Clip Organizer\j0442134.png"/>
          <p:cNvPicPr/>
          <p:nvPr/>
        </p:nvPicPr>
        <p:blipFill>
          <a:blip r:embed="rId1"/>
          <a:stretch/>
        </p:blipFill>
        <p:spPr>
          <a:xfrm>
            <a:off x="7997760" y="225360"/>
            <a:ext cx="7812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p 6: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duct-effectiveness (Is the task completed/Did I do what was required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udge the process-efficiency (How can I do things better?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valuation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d I complete the task and do what was required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completed the project on time included important information without giving every detail of her life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ow can I do things better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 think I did a pretty good job. Typing on a word document and going back and forth between windows was a bit slow for me. Maybe next time I can organize my notes on index card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8" descr="C:\Users\Stoli.Stoli-PC\Pictures\Microsoft Clip Organizer\j0441510.png"/>
          <p:cNvPicPr/>
          <p:nvPr/>
        </p:nvPicPr>
        <p:blipFill>
          <a:blip r:embed="rId1"/>
          <a:stretch/>
        </p:blipFill>
        <p:spPr>
          <a:xfrm>
            <a:off x="8070840" y="2984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egration into Curriculu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Ma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as a problem solving strateg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Language Ar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research for presentations or solve characters’ problem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cience: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The Big 6 as a guide in experi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Social Studi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Use The Big 6 to find a proposed solution to a cultural or social problem, as well as to gather information on historical event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teacher, you have many information gathering models to choose from. Although the Big6 may not be completely different than other models, the advantages a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ear language that students can underst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y to follow ste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amount of support available on the Big6 website and all over the internet to assist in integrating it into your curriculu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75f55"/>
                </a:solidFill>
                <a:latin typeface="Tw Cen MT"/>
              </a:rPr>
              <a:t>Just For Fun</a:t>
            </a:r>
            <a:endParaRPr b="0" lang="en-US" sz="8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ers, engage your students before you begin with the Big 6 song!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big6.com/2006/12/10/sing-a-song-of-research-turning-the-big6-into-a-tune/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2" descr="C:\Users\Mandy\AppData\Local\Microsoft\Windows\Temporary Internet Files\Content.IE5\I33D4CIP\MCj02327280000[1].wmf"/>
          <p:cNvPicPr/>
          <p:nvPr/>
        </p:nvPicPr>
        <p:blipFill>
          <a:blip r:embed="rId2"/>
          <a:stretch/>
        </p:blipFill>
        <p:spPr>
          <a:xfrm>
            <a:off x="3733920" y="3276720"/>
            <a:ext cx="162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s Cit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Nuts and Bolts of Big6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AT&amp;T Knowledge Network Explorer Homepag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kn.pacbell.com/wired/big6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Berkowitz, Robert E. and Mike Eisenberg.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The Big6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Big 6, 2009. Web. 18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www.big6.com&gt;.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 Six Steps- CRLS Research Guid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Basic Steps to Creating a Research Project- CRLS Research Guide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Web. 19 Oct. 2009. &lt;http://www.crlsresearchguide.org/Big_Six_Steps.asp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"Big6 Super3 template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Instructional Technology Media Center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Web. 19 Oct. 2009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&lt;http://205.213.162.11/project_big6/super3/super3.htm&gt;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Eisenberg, Michael. "It's All About Learning: Ensuring That Students Are Effective Users of Information on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Standardized Tests."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y Management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. 6th ed. Columbus: Linworth Books, 2007. Print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Hughes, Sandra. “The Big6 as a Strategy for Student Research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School Libraries in Canada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2.4 (2003):28. 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Robinson, Laura Eisenberg. “Early Learners.” </a:t>
            </a:r>
            <a:r>
              <a:rPr b="0" i="1" lang="en-US" sz="1400" spc="-1" strike="noStrike">
                <a:solidFill>
                  <a:srgbClr val="000000"/>
                </a:solidFill>
                <a:latin typeface="Tw Cen MT"/>
              </a:rPr>
              <a:t>Library Media Connection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27.2 (2008): 10-11. Journal Article.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All images courtesy of Microsoft Clip-Art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nformation Literac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tated in the Information Literacy Competency Standards for Higher Education, “Information literacy is a set of abilities requiring individuals to ‘recognize when information is needed and have the ability to locate, evaluate, and use effectively the needed information”(Robinson 10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 instruction needs to begin with our youngest learners…” (Robinson 1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What’s a teacher to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at method should YOU choos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8" descr="C:\Users\Mandy\AppData\Local\Microsoft\Windows\Temporary Internet Files\Content.IE5\I33D4CIP\MCj04114940000[1].wmf"/>
          <p:cNvPicPr/>
          <p:nvPr/>
        </p:nvPicPr>
        <p:blipFill>
          <a:blip r:embed="rId2"/>
          <a:stretch/>
        </p:blipFill>
        <p:spPr>
          <a:xfrm>
            <a:off x="2819520" y="914400"/>
            <a:ext cx="4398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Never Fear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w Cen MT"/>
              </a:rPr>
              <a:t>BIG 6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IS HERE!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5" descr="C:\Users\Stoli.Stoli-PC\AppData\Local\Microsoft\Windows\Temporary Internet Files\Content.IE5\8MJD2KME\MCj04418880000[1].wmf"/>
          <p:cNvPicPr/>
          <p:nvPr/>
        </p:nvPicPr>
        <p:blipFill>
          <a:blip r:embed="rId1"/>
          <a:stretch/>
        </p:blipFill>
        <p:spPr>
          <a:xfrm>
            <a:off x="3657600" y="4724280"/>
            <a:ext cx="22636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7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animClr clrSpc="rgb">
                                      <p:cBhvr>
                                        <p:cTn id="15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0f4"/>
                                      </p:to>
                                    </p:animClr>
                                    <p:set>
                                      <p:cBhvr>
                                        <p:cTn id="16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Big 6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Big 6 i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literacy curriculum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n information problem-solving process that can be used in all areas of lif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 set of skills which provide a strategy for effectively and efficiently meeting information need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hy Should I Use Big 6?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uses a multi-level approach so students can develop competency in information problem-solving and decision-making that will carry forward into lifelong, useable skills” (Nuts and Bolts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integrates information search and use skills along with technology tools in a systematic process to find, use, apply, and evaluate information for specific needs and task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skills are not taught in isolation, but within context, current curriculum, and everyday experiences” (Robinson 11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ig6 can be applied as a thinking process to deal with most problems and therefore can be applied consistently and repeatedly throughout the learning program, thereby increasing a student’s chances of learning it” (Hughes 28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Student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arn transferable planning and organizing skills they will be able to apply for a lifeti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nd, sort, and apply relevant, credible information to creatively solve a proble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pare a solution based on reliable information, and give proper credit to information sourc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chieve results using any individual learning style; Students will consider if their current style and approach works well for problem sol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nderstand general problem-solving concepts and then refine each skill to learn and perfect specific detai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6 Teacher Benefi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dapta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Your current units and lessons can be framed within the Big6 context. Big6 compliments standards-based curriculum, and has terminology to fit student learning in grades K-12 and beyond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Flexible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Emphasize one Big6 skill or all Big6 skills throughout a school year, based on needs in your school, time and resources available, and library/classroom partnershi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llaboration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facilitates communication among administrators, classroom teachers, and teacher-librarians. The Big6 is useful when you need to coordinate cross-curricular projec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Training: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Big6 Trainers are professional, in-school educators. Big6 workshops are tailored to meet your local needs, and the Big6.com website resources provide ongoing suppor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0:57:56Z</dcterms:created>
  <dc:creator>Stoli</dc:creator>
  <dc:description/>
  <dc:language>en-US</dc:language>
  <cp:lastModifiedBy>Stoli</cp:lastModifiedBy>
  <dcterms:modified xsi:type="dcterms:W3CDTF">2009-10-24T01:23:51Z</dcterms:modified>
  <cp:revision>99</cp:revision>
  <dc:subject/>
  <dc:title>Inquiry/research process the information literacy solution</dc:title>
</cp:coreProperties>
</file>